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et%20les%20ouiseaux%20chantant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BD4-7CC6-44CF-B9F0-BBCB0CB6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A32-4ABD-4E95-B1D1-9E842D5E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98E-C376-4154-A975-F5C028D0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87E-9E85-4833-903B-B96E7B3B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B03-2FCE-473A-B1B8-B86859D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75C-E3B6-4715-9B2A-844EF10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E09-D35B-496F-B382-55266383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380-8940-46E8-BB64-C3A2E987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85A-6F04-4614-A0AE-F45379DF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6E7-2A13-437C-8DA7-C487A6C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6F6-BA71-4B00-ACA2-39CABC5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051-96AF-42ED-BF60-415F26D3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7CDB-B18A-4074-AF92-418F9EF33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t%20les%20ouiseaux%20chantan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0"/>
            <a:ext cx="476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5157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9280" y="6094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Poor Richard"/>
              </a:rPr>
              <a:t>Eenv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1341360"/>
            <a:ext cx="367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voud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leven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schoonhe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4398840" cy="659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994120" cy="4489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476280"/>
            <a:ext cx="269856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Als je    begre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w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word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zeg d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pr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wat je      bedoel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9108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413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2060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23920"/>
            <a:ext cx="3166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Humor is een prachtige waterlelie die wortelt in het troebele water van verdr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33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0"/>
            <a:ext cx="255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Tra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unn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r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148360" y="0"/>
            <a:ext cx="3527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Geluk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de  ku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 boe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blo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wa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je bij ka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16320" y="0"/>
            <a:ext cx="4927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48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3920"/>
            <a:ext cx="2808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ie blij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et kl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in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kan z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e h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erheu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91" name="plant"/>
          <p:cNvSpPr/>
          <p:nvPr/>
        </p:nvSpPr>
        <p:spPr>
          <a:xfrm>
            <a:off x="684360" y="189000"/>
            <a:ext cx="2735280" cy="2160360"/>
          </a:xfrm>
          <a:prstGeom prst="pie">
            <a:avLst/>
          </a:prstGeom>
          <a:noFill/>
          <a:ln w="57240">
            <a:solidFill>
              <a:srgbClr val="ebe67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0064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cript MT Bold"/>
              </a:rPr>
              <a:t>Zoek geen grote woorden,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cript MT Bold"/>
              </a:rPr>
              <a:t>als een klein gebaar volsta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67280" y="361800"/>
            <a:ext cx="2952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vrie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iemand di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als hij j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g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igenlijk je    hart aanraak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6153120" cy="6742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724360" y="1773360"/>
            <a:ext cx="25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56360" y="223920"/>
            <a:ext cx="280836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aardig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v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plezier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ding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rinner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Spreek slechts van liefde als je weet                         wat tederheid 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608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59280" y="800280"/>
            <a:ext cx="4284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Knuffeltj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en veel warm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10080720" cy="747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9116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651528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-171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De hoogste wijs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76280"/>
            <a:ext cx="41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vriendelijkhei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31680" y="0"/>
            <a:ext cx="54658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24360" y="21337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1268280"/>
            <a:ext cx="2879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aarhei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jez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445000"/>
            <a:ext cx="795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Het verleden is het enige deel van je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dat je niet kan verand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3597120" y="0"/>
            <a:ext cx="5546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702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e herinnering die je later wil heb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oet je nu mak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96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223920"/>
            <a:ext cx="3529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optimist vergist zich evenzeer als een          pessim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maar hij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gelukk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6353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8720" y="0"/>
            <a:ext cx="3097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O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o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is g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kun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er l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m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omga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e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136440" y="260280"/>
            <a:ext cx="5624640" cy="590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67280" y="765000"/>
            <a:ext cx="2952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Hoop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Voorsc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toekomst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gelu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83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23920"/>
            <a:ext cx="295272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rechtvaar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ze 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mogen zi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ar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bij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altij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Smets</cp:lastModifiedBy>
  <dcterms:modified xsi:type="dcterms:W3CDTF">2008-09-03T20:00:15Z</dcterms:modified>
  <cp:revision>21</cp:revision>
  <dc:subject/>
  <dc:title>Dia 1</dc:title>
</cp:coreProperties>
</file>