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et%20les%20ouiseaux%20chantant.wav" ContentType="audio/x-wav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265-7467-430E-80B4-65FA9A50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796-D009-4FAE-8F6E-24485D26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0A3-2E99-4167-BA45-F1DD7EC9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6AF-0F6A-4AFD-B6EC-9A290E46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83A-98C7-497D-98EE-C839E775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2B21-F4FA-4D2D-AD22-E1B09D05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B04-F8FD-4332-874C-50DFB480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F96-3E8B-4B8A-B671-23318D51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AD1-0820-47E8-9AB8-1B395722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25F-B126-48AC-8328-C778A528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B28-684D-4458-84C6-29C339D3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29F-4224-4F0E-A0FA-BD9BC0F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B6F9-748A-4764-9221-BE95A78EE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t%20les%20ouiseaux%20chantan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382" t="0" r="0" b="0"/>
          <a:stretch/>
        </p:blipFill>
        <p:spPr>
          <a:xfrm>
            <a:off x="150840" y="0"/>
            <a:ext cx="476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515772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59280" y="6094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Poor Richard"/>
              </a:rPr>
              <a:t>Eenv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1341360"/>
            <a:ext cx="367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Eenvoud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leven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schoonhe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4398840" cy="6597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2994120" cy="4489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033640" cy="304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476280"/>
            <a:ext cx="269856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Als je    begre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w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word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zeg d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pr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wat je      bedoel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9108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413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2060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23920"/>
            <a:ext cx="3166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Humor is een prachtige waterlelie die wortelt in het troebele water van verdr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333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0"/>
            <a:ext cx="255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Tra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verdunn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verdr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48360" y="0"/>
            <a:ext cx="35272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Geluk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de  ku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een boek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te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 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blo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wa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je bij kan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16320" y="0"/>
            <a:ext cx="49276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260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484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052640"/>
            <a:ext cx="2735280" cy="36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23920"/>
            <a:ext cx="2808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ie blij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met kl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ing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kan z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e h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erheu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7308" t="8462" r="19231" b="8462"/>
          <a:stretch/>
        </p:blipFill>
        <p:spPr>
          <a:xfrm>
            <a:off x="4305240" y="0"/>
            <a:ext cx="4838760" cy="5472000"/>
          </a:xfrm>
          <a:prstGeom prst="rect">
            <a:avLst/>
          </a:prstGeom>
          <a:ln w="0">
            <a:noFill/>
          </a:ln>
        </p:spPr>
      </p:pic>
      <p:sp>
        <p:nvSpPr>
          <p:cNvPr id="91" name="plant"/>
          <p:cNvSpPr/>
          <p:nvPr/>
        </p:nvSpPr>
        <p:spPr>
          <a:xfrm>
            <a:off x="684360" y="189000"/>
            <a:ext cx="2735280" cy="2160360"/>
          </a:xfrm>
          <a:prstGeom prst="pie">
            <a:avLst/>
          </a:prstGeom>
          <a:noFill/>
          <a:ln w="57240">
            <a:solidFill>
              <a:srgbClr val="ebe67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0064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cript MT Bold"/>
              </a:rPr>
              <a:t>Zoek geen grote woorden,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cript MT Bold"/>
              </a:rPr>
              <a:t>als een klein gebaar volsta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67280" y="361800"/>
            <a:ext cx="2952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vrie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is iemand di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als hij j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gee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igenlijk je    hart aanraak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6153120" cy="674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24360" y="1773360"/>
            <a:ext cx="25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6360" y="223920"/>
            <a:ext cx="280836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aardig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v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plezieri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ding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herinner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47640" y="981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Spreek slechts van liefde als je weet                         wat tederheid 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608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59280" y="800280"/>
            <a:ext cx="4284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Knuffeltj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en veel warm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10080720" cy="747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316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9116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6515280"/>
            <a:ext cx="30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-17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De hoogste wijs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76280"/>
            <a:ext cx="41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is vriendelijkheid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31680" y="0"/>
            <a:ext cx="54658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24360" y="21337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1268280"/>
            <a:ext cx="2879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aarhei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an jez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445000"/>
            <a:ext cx="795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99ff"/>
                </a:solidFill>
                <a:latin typeface="Script MT Bold"/>
              </a:rPr>
              <a:t>Het verleden is het enige deel van je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99ff"/>
                </a:solidFill>
                <a:latin typeface="Script MT Bold"/>
              </a:rPr>
              <a:t>dat je niet kan verand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3801"/>
          <a:stretch/>
        </p:blipFill>
        <p:spPr>
          <a:xfrm>
            <a:off x="3597120" y="0"/>
            <a:ext cx="55468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7020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e herinnering die je later wil heb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moet je nu mak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1796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5589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223920"/>
            <a:ext cx="3529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optimist vergist zich evenzeer als een          pessim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maar hij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gelukk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6353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8720" y="0"/>
            <a:ext cx="3097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Ou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wor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is g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kun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er l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m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omga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we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9083" t="6812" r="9083" b="7191"/>
          <a:stretch/>
        </p:blipFill>
        <p:spPr>
          <a:xfrm>
            <a:off x="136440" y="260280"/>
            <a:ext cx="5624640" cy="590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867280" y="765000"/>
            <a:ext cx="2952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Hoop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Voorsc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toekomsti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gelu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830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23920"/>
            <a:ext cx="295272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rechtvaard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ze 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mogen zi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Har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bij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altij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Smets</cp:lastModifiedBy>
  <dcterms:modified xsi:type="dcterms:W3CDTF">2008-09-03T20:00:15Z</dcterms:modified>
  <cp:revision>21</cp:revision>
  <dc:subject/>
  <dc:title>Dia 1</dc:title>
</cp:coreProperties>
</file>