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D88-31E5-49D4-8991-151C3C55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7008-3189-49F8-B30F-5DB045D0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210D-999A-495F-8912-5CEC6979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B6E-4696-40D0-AB49-0C3FFAEE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B1F3-9E68-4363-A58A-30F6AF19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D7D5-E66C-40FC-8601-D8A770C7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F342-8864-4B1B-A06B-49D842A0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E6C2-44A7-4D20-A640-4F4D1F92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884A-4B60-4DD1-8940-8E6D01AA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FBC5-5302-41C0-BD07-20A0CED7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6167-8F67-46CD-B28A-33BAE008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F5C-57E1-43DD-9714-224B454A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93E0-63B4-4D9C-8EE8-2495E45F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ACAD-C797-4603-AF69-B34C6AA9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35B9-15FA-4AD8-AC34-4012F818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DF75-D51E-4342-978E-9B5785DA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4DA7-7CB0-46FE-994A-1D435929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1CC5-61FD-4B46-A89D-82817D62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B89-378D-4988-9ECB-091E5EF8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233-1329-453A-9CFC-0A3E89E3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957-84FD-4D62-B17D-13EA9B29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953-5C36-4F39-A0F2-FAD3C5BD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AA9-7460-497B-8577-C00A4715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1F7-A119-45A6-AE53-BF4D62EC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FDD4-07B6-40B4-BB76-7643C1DD14B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EE44-4358-4898-8BD1-F51EC164F4A4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Les réseaux étendu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ionel Bru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épartement Informat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stitut National des Sciences Appliquées de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Commutation de paque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rigine : transmission de données sur des réseaux analogiques =&gt; tolérance aux fautes et au bru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écoupage des messages en petits paqu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dresse de destination dans l’entête de chaque paqu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ux types de servic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ans connexion : chaque paquet est routé individuelle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vec connexion : création d’un circuit virtuel commuté ; route identique pour tous les paqu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acturation au nombre de paquets ém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rrection d’erreur possible, priorisation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vantage : meilleure utilisation des ressources rése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x : Frame Relay, Internet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Commutation de cellul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x : A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tégration de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ellules de taille fixe (53 octe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ivision d’un lien physique en n conduits virtuels (virtual paths) et canaux virtuels (virtual channe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mutation de cellules (adresse de destination (VP, VC)) =&gt; circuit virtuel commuté ; bande-passante partag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alité de service : possibilité de réservation de res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itialisation à la connexion assez lour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Technologies de transmission de donné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oucle locale : analogique, numérique, ra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éseaux sans fil/cellulai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â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ignes priv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rame Rela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X25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ack to roots : 70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tocole à commutation de paquets (CCITT, IT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çu pour des réseaux analogiques bruités =&gt; correction d’erreur à chaque nœud du réseau =&gt; grande latence =&gt; bon pour les données, pas bon pour le temps ré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Frame Rela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tocole à commutation de paquets avec connex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lternative aux liaisons priv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ssibilité de bande passante fixe ou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rame Relay ne spécifie pas le mode de transport implémenté : on peut faire du FR sur A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RNIS (ISDN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éseau Numérique à Intégration de Services (Integrated Services Digital Network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Voix et Vidé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mutation de circu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ignes numériques à 64 Kbps (B(earer)-channels) ; contrôle sur un canal séparé (D(elta) chann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ux types de service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débit de base : 2 B-channels + 1 D channel à 16Kb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ro : 30 B channels + 1 D channel à 64 Kb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NIS large bande pour la fibre optique : jusqu’à 155 Mb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(A)DS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Asymmetrical) Digital Subscriber Line (DSL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réquences différentes pour la voix et les donn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 trafic est agrégé au niveau du commutateur local avant d’être envoyé sur le rés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SL a beaucoup de déclina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Multiplex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bjectifs : optimisation de l’utilisation du réseau =&gt; agrégation de flux de données avant transmission sur le backb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requency Division Multiplexing (FDM) : signaux analog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ime Division Multiplexing (TDM) : données numér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Wave Division Multiplexing (WDM) : signaux optiques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ATM : qualité de serv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stant Bit Rate (CBR) : voix, vidé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Variable Bit Rate (VBR) : données, vidéo compress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Real-time Variable Bit Rate (rt-VBR) : synchronis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Non-real-time Variable Bit Rate (nrt-VB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vailable Bit Rate (AB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nspecified Bit Rate (UB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uche d’adaptation (A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figure%20frames%201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3048120" cy="2381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Fram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gglomération de morceaux de données issus de flux différents suivant un multiplexage tempor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rame/superframe-extended super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figure%20MAN-WAN" descr=""/>
          <p:cNvPicPr/>
          <p:nvPr/>
        </p:nvPicPr>
        <p:blipFill>
          <a:blip r:embed="rId1"/>
          <a:stretch/>
        </p:blipFill>
        <p:spPr>
          <a:xfrm>
            <a:off x="5410080" y="152280"/>
            <a:ext cx="3505320" cy="2738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terconnexion de 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chelle métropolitaine : 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chelle (inter-)nationale : W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traintes différentes = technologies (souvent) différen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teropérabilité ! Cf CCITT-&gt; ITU, IETF, ATM Forum, Frame Relay Forum, IEEE, ANSI, ETSI, OSI, AFN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torités de régulation (AR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figure%20frame%20E1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48120" cy="23810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Frame Relay (E1-G703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8 bits = 1 DS0 channel.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30 DS0 channels + 1 framing channel + 1 signaling channel =1 frame E-1 (CEPT-1 : Conférence Européenne des Administrations des Postes et des Télécommunications-1).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E-1 frames = 1 frame G.703 (ITU).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Signal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formations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onfigu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formations envoyés sur un canal spécial ou dans les canaux de donn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Autres protocoles de transpor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witched Multi-megabit Data Service (SMDS) / Distributed Queue Dual Bus (DQDB) : interconnexion de réseaux locaux, sans service de connexion (MA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witched Ether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ptique : SONET/SD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tocoles spécifiques aux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Transport des données : composa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Dé)Multiplex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wit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épét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terfaces de connexion entre protoc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rès forte normalisation =&gt; assez peu de protoc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uverture du marché =&gt; complexité de l’off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vergence voix-données-images-vidéos… calcu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cept-clef : multiplex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tocoles de plus en plus pensés en fonction des services à offr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ouvelle frontière : l’intégration de res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informatique sans fil =&gt; ubiquité/pervasif/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ad ho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informatique partagée : gril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Les questions à se poser..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elles donnée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elle distance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els utilisateur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elle technologie de transmission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els protocole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figure%20fournisseurs%20WAN%202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3047760" cy="23814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Acteurs WA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2971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C)LEC : (Competitive) Local Exchange Carrier : le dernier kilomè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EC : Inter Exchange Carrier : les grands opérat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AP : Competitive Access Provi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SP : Internet Service Provi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Connexions WA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ignes privées (spécialisées : LS) : paiement fixe. Applications : video conference, téléopérations chirurgicales, transferts banc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ignes partagées : paiement à l’u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Connexions switchées (virtuelles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nexions point à point ou multipoint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outage dynamique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éléphone : à l’initialisation puis permanent (mode connecté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onnées : un paquet peut suivre une route différente  (mode sans connex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Commu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mutation de circuits : mise en place d’un circuit (virtuel) dédié utilisé pendant toute la durée de la transmis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mutation de messages : routage dynamique de messages ent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mutation de paquets : découpage des messages en paquets . Possibilité de routage individu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mutation de cellules : découpage en cellules de taille fi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Commutation de circui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3" marL="1519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pproche historique : télépho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nexion point à point temporaire mais constante durant la communication (circuit ou can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itialisation lour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ande-passante fixe dédi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ransmission rapide une fois la connexion établ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s de correction d’err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acturation à la dur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x : RTC, RNIS, réseaux cellul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Commutation de messag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tore and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 message émis contient l’adresse de dest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ransmission au commutateur le plus proche ; stockage ; envoi vers le commutateur suivant en fonction de la charge du réseau/des commutateurs vois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vantage : meilleur dynamicit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convénient : risque d’engorgement des commutat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0:03:53Z</dcterms:created>
  <dc:creator>Lionel Brunie</dc:creator>
  <dc:description/>
  <dc:language>en-US</dc:language>
  <cp:lastModifiedBy>Lionel Brunie</cp:lastModifiedBy>
  <dcterms:modified xsi:type="dcterms:W3CDTF">2004-03-22T12:15:25Z</dcterms:modified>
  <cp:revision>9</cp:revision>
  <dc:subject/>
  <dc:title>Les réseaux étendus</dc:title>
</cp:coreProperties>
</file>