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A86E-ED5B-4D42-B0CD-7C090C6CE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B158-EAE2-405A-B04E-EF71C4AA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08AB-3688-4BE4-A60F-326DD9606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416B-D993-43AD-967A-D29454384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5B97-6291-4ABD-BB71-5E42F3235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A951-650F-467A-B47F-5E62A3E4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8081-ED4D-49BC-A148-472D0BC1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FE11-CD9F-4224-9C3B-79DBC2DE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461E-A361-4813-8E10-9E7A5A74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4046-835D-4820-91E1-F11C99AA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800B-310D-4555-9FC8-FF970D92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23A5-3384-4E38-B9B6-22256514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DEA6-66BB-4DFA-94E3-97081F53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845D-E53E-4247-BCFB-FE609543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9789-8BD1-4F27-A790-9E104502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DB7D-42FC-4F2A-BF0F-2F989C839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B5B0-7B1E-42C1-A3F1-C40E24B47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DEAB-0C99-4401-84F1-D6169C36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24A0-98BB-4048-A515-01811D7C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16D4-F000-4286-8722-9EF61CE0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DC7B-6F93-45C4-A3AD-21E428B9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0155-1499-46CE-BFE0-62D25ACE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5AE8-0327-48B5-98E9-C0A07150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F25A-9B32-4F6D-8F2A-7C060041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62FB-2323-4F5B-81CA-4FEB25FE7C58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D470-B2D7-44A1-A8AF-AA8C84581CFC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Les réseaux étendu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ionel Bru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épartement Informat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stitut National des Sciences Appliquées de Ly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Commutation de paque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Origine : transmission de données sur des réseaux analogiques =&gt; tolérance aux fautes et au bru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écoupage des messages en petits paqu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dresse de destination dans l’entête de chaque paqu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eux types de servic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ans connexion : chaque paquet est routé individuellemen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avec connexion : création d’un circuit virtuel commuté ; route identique pour tous les paqu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Facturation au nombre de paquets ém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rrection d’erreur possible, priorisation pos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vantage : meilleure utilisation des ressources résea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Ex : Frame Relay, Internet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Commutation de cellul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Ex : A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tégration de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ellules de taille fixe (53 octe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ivision d’un lien physique en n conduits virtuels (virtual paths) et canaux virtuels (virtual channel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mmutation de cellules (adresse de destination (VP, VC)) =&gt; circuit virtuel commuté ; bande-passante partag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Qualité de service : possibilité de réservation de res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itialisation à la connexion assez lour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Technologies de transmission de donné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Boucle locale : analogique, numérique, ra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Réseaux sans fil/cellulair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â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ignes priv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Frame Rela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RN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X25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Back to roots : 70’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otocole à commutation de paquets (CCITT, IT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nçu pour des réseaux analogiques bruités =&gt; correction d’erreur à chaque nœud du réseau =&gt; grande latence =&gt; bon pour les données, pas bon pour le temps ré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Frame Rela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otocole à commutation de paquets avec connex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lternative aux liaisons priv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ossibilité de bande passante fixe ou var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Frame Relay ne spécifie pas le mode de transport implémenté : on peut faire du FR sur A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RNIS (ISDN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Réseau Numérique à Intégration de Services (Integrated Services Digital Network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Voix et Vidé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mmutation de circu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ignes numériques à 64 Kbps (B(earer)-channels) ; contrôle sur un canal séparé (D(elta) channe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eux types de services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débit de base : 2 B-channels + 1 D channel à 16Kb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pro : 30 B channels + 1 D channel à 64 Kb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RNIS large bande pour la fibre optique : jusqu’à 155 Mb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(A)DS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Asymmetrical) Digital Subscriber Line (DSL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Fréquences différentes pour la voix et les donn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e trafic est agrégé au niveau du commutateur local avant d’être envoyé sur le rése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SL a beaucoup de déclinais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Multiplex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Objectifs : optimisation de l’utilisation du réseau =&gt; agrégation de flux de données avant transmission sur le backb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Frequency Division Multiplexing (FDM) : signaux analog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Time Division Multiplexing (TDM) : données num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Wave Division Multiplexing (WDM) : signaux optiques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ATM : qualité de serv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nstant Bit Rate (CBR) : voix, vidé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Variable Bit Rate (VBR) : données, vidéo compress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Real-time Variable Bit Rate (rt-VBR) : synchronis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Non-real-time Variable Bit Rate (nrt-VB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vailable Bit Rate (AB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Unspecified Bit Rate (UB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uche d’adaptation (A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figure%20frames%201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3048120" cy="23810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Fram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gglomération de morceaux de données issus de flux différents suivant un multiplexage tempor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Frame/superframe-extended superfr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figure%20MAN-WAN" descr=""/>
          <p:cNvPicPr/>
          <p:nvPr/>
        </p:nvPicPr>
        <p:blipFill>
          <a:blip r:embed="rId1"/>
          <a:stretch/>
        </p:blipFill>
        <p:spPr>
          <a:xfrm>
            <a:off x="5410080" y="152280"/>
            <a:ext cx="3505320" cy="27385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terconnexion de 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Echelle métropolitaine : M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Echelle (inter-)nationale : W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ntraintes différentes = technologies (souvent) différent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teropérabilité ! Cf CCITT-&gt; ITU, IETF, ATM Forum, Frame Relay Forum, IEEE, ANSI, ETSI, OSI, AFN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utorités de régulation (AR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figure%20frame%20E1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48120" cy="238104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Frame Relay (E1-G703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8 bits = 1 DS0 channel.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30 DS0 channels + 1 framing channel + 1 signaling channel =1 frame E-1 (CEPT-1 : Conférence Européenne des Administrations des Postes et des Télécommunications-1).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6 E-1 frames = 1 frame G.703 (ITU).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Signal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formations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perform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t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configu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formations envoyés sur un canal spécial ou dans les canaux de donn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Autres protocoles de transpor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witched Multi-megabit Data Service (SMDS) / Distributed Queue Dual Bus (DQDB) : interconnexion de réseaux locaux, sans service de connexion (MA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witched Etherne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Optique : SONET/SD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otocoles spécifiques aux satell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Transport des données : composa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Dé)Multiplexe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witch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Répéte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terfaces de connexion entre protoc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Très forte normalisation =&gt; assez peu de protoc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Ouverture du marché =&gt; complexité de l’off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nvergence voix-données-images-vidéos… calcu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ncept-clef : multiplex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otocoles de plus en plus pensés en fonction des services à offr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Nouvelle frontière : l’intégration de res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informatique sans fil =&gt; ubiquité/pervasif/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ad ho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informatique partagée : gril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Les questions à se poser..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Quelles données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Quelle distance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Quels utilisateurs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Quelle technologie de transmission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Quels protocoles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figure%20fournisseurs%20WAN%202" descr=""/>
          <p:cNvPicPr/>
          <p:nvPr/>
        </p:nvPicPr>
        <p:blipFill>
          <a:blip r:embed="rId1"/>
          <a:stretch/>
        </p:blipFill>
        <p:spPr>
          <a:xfrm>
            <a:off x="5791320" y="228600"/>
            <a:ext cx="3047760" cy="23814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Acteurs WA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19320" y="29718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C)LEC : (Competitive) Local Exchange Carrier : le dernier kilomèt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EC : Inter Exchange Carrier : les grands opérate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AP : Competitive Access Provid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SP : Internet Service Provi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Connexions WA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ignes privées (spécialisées : LS) : paiement fixe. Applications : video conference, téléopérations chirurgicales, transferts bancai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ignes partagées : paiement à l’us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Connexions switchées (virtuelles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nnexions point à point ou multipoint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Routage dynamique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Téléphone : à l’initialisation puis permanent (mode connecté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onnées : un paquet peut suivre une route différente  (mode sans connex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Commu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mmutation de circuits : mise en place d’un circuit (virtuel) dédié utilisé pendant toute la durée de la transmiss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mmutation de messages : routage dynamique de messages ent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mmutation de paquets : découpage des messages en paquets . Possibilité de routage individu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mmutation de cellules : découpage en cellules de taille fix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Commutation de circui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lvl="3" marL="15199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pproche historique : téléphon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nnexion point à point temporaire mais constante durant la communication (circuit ou can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itialisation lour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Bande-passante fixe dédi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Transmission rapide une fois la connexion établ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s de correction d’erre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Facturation à la dur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Ex : RTC, RNIS, réseaux cellulai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Commutation de messag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tore and forw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e message émis contient l’adresse de destin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Transmission au commutateur le plus proche ; stockage ; envoi vers le commutateur suivant en fonction de la charge du réseau/des commutateurs vois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vantage : meilleur dynamicité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convénient : risque d’engorgement des commutate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0:03:53Z</dcterms:created>
  <dc:creator>Lionel Brunie</dc:creator>
  <dc:description/>
  <dc:language>en-US</dc:language>
  <cp:lastModifiedBy>Lionel Brunie</cp:lastModifiedBy>
  <dcterms:modified xsi:type="dcterms:W3CDTF">2004-03-22T12:15:25Z</dcterms:modified>
  <cp:revision>9</cp:revision>
  <dc:subject/>
  <dc:title>Les réseaux étendus</dc:title>
</cp:coreProperties>
</file>