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08F-64D5-4982-89C0-8FA8C678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B56-5CDE-47DF-A3C3-12A8D000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E98-4D8F-47EE-99F2-2AFBA5DA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3BD-0031-4892-9562-30530AB4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C4E-55DC-4F41-9AE7-19F532C8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2A0-7BED-4F5F-A52F-6E16B0F9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EE5-825B-49DA-9484-BE6729E7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9C0-16A5-42E4-929A-368F0EC7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336-37DF-481A-A54A-02A16D51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F3C-42EB-4E36-BFB8-90719BCC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A64-AFB7-4CC8-9E75-8C6434F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837-64E5-471F-B89A-96AB774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EDD2-51A5-45A7-ABEC-629D3193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1125360"/>
            <a:ext cx="604836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Rockwell Condensed"/>
              </a:rPr>
              <a:t>4.3 PROTEIN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Rockwell Condensed"/>
              <a:ea typeface="Rockwell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0464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APTER 4 : CHEMICAL COMPOSITION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1787760" cy="218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43280" y="4797360"/>
            <a:ext cx="388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PREPARED B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UHD FAZLI B. DOL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BPI GOP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92360" y="259920"/>
            <a:ext cx="7200720" cy="6264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: C, H, O, S, N &amp;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&amp; complex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mer : amino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of amino acids are joined together through cond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mino acids are joined together by 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mino acid + amino acid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dipeptide +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peptides are formed when many molecules of amino acids are joined together to form long chains of a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peptides broken down through a series of hydrolysis reactions to become dipeptides &amp; finally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18920" y="260280"/>
            <a:ext cx="7273800" cy="633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20 amino acids found in the proteins of liv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Two types of a.a.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ssential amino acids : cannot synthesised by body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Non-essential amino acids : can be synthesised by body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Food that contain all the essential a.a. are called 1</a:t>
            </a:r>
            <a:r>
              <a:rPr b="0" lang="en-US" sz="3200" spc="-1" strike="noStrike" baseline="30000">
                <a:solidFill>
                  <a:srgbClr val="cc0099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class protein. (milk, meat, eg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Food that lacks a few essential a.a. are 2</a:t>
            </a:r>
            <a:r>
              <a:rPr b="0" lang="en-US" sz="3200" spc="-1" strike="noStrike" baseline="30000">
                <a:solidFill>
                  <a:srgbClr val="cc0099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class protein. (co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Stencil"/>
              </a:rPr>
              <a:t>Protein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19280" y="1052280"/>
            <a:ext cx="7067520" cy="5545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Primary struc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a long straight chain of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Secondary struc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coiled to form helix or pleated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Tertiary struc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helix or pleated sheet is folded in various ways to form globular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Quarternary struc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folded protein chains are joined together to form a single prot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8840" y="333360"/>
            <a:ext cx="4594320" cy="626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4033800" cy="6148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1:06:59Z</dcterms:created>
  <dc:creator>FAZLIE &amp; WAWA</dc:creator>
  <dc:description/>
  <dc:language>en-US</dc:language>
  <cp:lastModifiedBy>FAZLIE &amp; WAWA</cp:lastModifiedBy>
  <dcterms:modified xsi:type="dcterms:W3CDTF">2006-04-13T01:52:31Z</dcterms:modified>
  <cp:revision>7</cp:revision>
  <dc:subject/>
  <dc:title>Slide 1</dc:title>
</cp:coreProperties>
</file>