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1005-EA47-4ED7-9DF5-62CB25FB8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D43A-98CC-40B4-BEF0-A2A863999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49AA-0292-4965-9C5A-5E76BF184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A7F2-81F7-4528-A1AE-92AA30E5F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1F57-EBD8-4129-A52B-5B73C0ABD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8EE9-4B4A-42C3-A671-3CCC125C7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F41F-6E8C-4436-86E9-1E08EC110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2EF5-6FF4-44F8-BD3F-6FF05BF41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1D70-8C31-4D27-A483-F6E31663E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AC42-7A77-483C-8B63-44B4149B0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B342-6735-4542-8802-BA32F991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3A2D-E677-4DFE-BC59-4A7BC7803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DB5A7-20B1-4FAD-A0DF-148A50D162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979640" y="1125360"/>
            <a:ext cx="6048360" cy="309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Rockwell Condensed"/>
              </a:rPr>
              <a:t>4.3 PROTEINS</a:t>
            </a:r>
            <a:endParaRPr b="1" lang="en-US" sz="4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Rockwell Condensed"/>
              <a:ea typeface="Rockwell Condensed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40464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APTER 4 : CHEMICAL COMPOSITION OF THE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763640" y="4149720"/>
            <a:ext cx="1787760" cy="2189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643280" y="4797360"/>
            <a:ext cx="3889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99"/>
                </a:solidFill>
                <a:uFillTx/>
                <a:latin typeface="Arial"/>
              </a:rPr>
              <a:t>PREPARED BY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MUHD FAZLI B. DOLL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SBPI GOPE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692360" y="259920"/>
            <a:ext cx="7200720" cy="626436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ments : C, H, O, S, N &amp; 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&amp; complex molec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mer : amino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lecules of amino acids are joined together through conden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mino acids are joined together by </a:t>
            </a:r>
            <a:r>
              <a:rPr b="0" i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peptide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mino acid + amino acid </a:t>
            </a:r>
            <a:r>
              <a:rPr b="0" lang="en-US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dipeptide +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ypeptides are formed when many molecules of amino acids are joined together to form long chains of a.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ypeptides broken down through a series of hydrolysis reactions to become dipeptides &amp; finally amino ac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1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1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618920" y="260280"/>
            <a:ext cx="7273800" cy="6337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Arial"/>
              </a:rPr>
              <a:t>20 amino acids found in the proteins of living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Arial"/>
              </a:rPr>
              <a:t>Two types of a.a.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Essential amino acids : cannot synthesised by body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Non-essential amino acids : can be synthesised by body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Arial"/>
              </a:rPr>
              <a:t>Food that contain all the essential a.a. are called 1</a:t>
            </a:r>
            <a:r>
              <a:rPr b="0" lang="en-US" sz="3200" spc="-1" strike="noStrike" baseline="30000">
                <a:solidFill>
                  <a:srgbClr val="cc0099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cc0099"/>
                </a:solidFill>
                <a:latin typeface="Arial"/>
              </a:rPr>
              <a:t> class protein. (milk, meat, eg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Arial"/>
              </a:rPr>
              <a:t>Food that lacks a few essential a.a. are 2</a:t>
            </a:r>
            <a:r>
              <a:rPr b="0" lang="en-US" sz="3200" spc="-1" strike="noStrike" baseline="30000">
                <a:solidFill>
                  <a:srgbClr val="cc0099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cc0099"/>
                </a:solidFill>
                <a:latin typeface="Arial"/>
              </a:rPr>
              <a:t> class protein. (cor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Stencil"/>
              </a:rPr>
              <a:t>Protein Struct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619280" y="1052280"/>
            <a:ext cx="7067520" cy="5545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bbe0e3"/>
                </a:solidFill>
                <a:uFillTx/>
                <a:latin typeface="Arial"/>
              </a:rPr>
              <a:t>Primary structur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: a long straight chain of polypept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bbe0e3"/>
                </a:solidFill>
                <a:uFillTx/>
                <a:latin typeface="Arial"/>
              </a:rPr>
              <a:t>Secondary structur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: coiled to form helix or pleated sh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bbe0e3"/>
                </a:solidFill>
                <a:uFillTx/>
                <a:latin typeface="Arial"/>
              </a:rPr>
              <a:t>Tertiary structur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: helix or pleated sheet is folded in various ways to form globular prot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bbe0e3"/>
                </a:solidFill>
                <a:uFillTx/>
                <a:latin typeface="Arial"/>
              </a:rPr>
              <a:t>Quarternary structur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: folded protein chains are joined together to form a single prote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58840" y="333360"/>
            <a:ext cx="4594320" cy="6264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859280" y="333360"/>
            <a:ext cx="4033800" cy="6148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2T01:06:59Z</dcterms:created>
  <dc:creator>FAZLIE &amp; WAWA</dc:creator>
  <dc:description/>
  <dc:language>en-US</dc:language>
  <cp:lastModifiedBy>FAZLIE &amp; WAWA</cp:lastModifiedBy>
  <dcterms:modified xsi:type="dcterms:W3CDTF">2006-04-13T01:52:31Z</dcterms:modified>
  <cp:revision>7</cp:revision>
  <dc:subject/>
  <dc:title>Slide 1</dc:title>
</cp:coreProperties>
</file>