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67E-AA27-4E1E-9B9D-E50D35B5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8F3-C86E-4ECB-BB1D-D0DA6D8D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9333-4782-4AA6-8F9A-EF1673EB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82F-A3F6-4D47-ADC0-E2CD765A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D47-01E8-47E7-87FF-133D57BA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4B0-67F0-486A-8605-A4B0F76B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A36-2B4E-400A-AC13-2AC26160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899-1013-4A20-AB69-B3C72DBC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BBA-A21B-402C-AAB1-A4F870A7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D4E-01DD-4F69-ACAE-E074A06A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678-CFB8-4AC4-BA97-0D30FC88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FB6-D53E-4F0C-82F9-DC92EA0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84328-C1E6-4EBB-AFD5-64EE551C6FF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77F76-BDBF-407B-AC6A-D28309DB27D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4:44:06Z</dcterms:created>
  <dc:creator>최봉수</dc:creator>
  <dc:description/>
  <dc:language>en-US</dc:language>
  <cp:lastModifiedBy>맛있다 군만두</cp:lastModifiedBy>
  <dcterms:modified xsi:type="dcterms:W3CDTF">2024-10-01T03:05:15Z</dcterms:modified>
  <cp:revision>3</cp:revision>
  <dc:subject/>
  <dc:title>슬라이드 1</dc:title>
</cp:coreProperties>
</file>