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F1D-1291-4B23-8900-4496B945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D97-B0AB-49D3-AF82-ECC83E58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7FC-FA0F-439B-936C-10A054E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4B2-7D62-42C9-B5A1-98A70326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E63-825C-4E04-B794-76512CF5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BF6-33E4-4AE9-B847-88914AC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01F-08CD-44B6-962F-0986C19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D00-D572-4028-87E7-70FE8E3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E6B-D32F-4FF6-8E04-DC98831E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1E3-7E04-416D-9577-8A244CC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7CC-26AB-42C5-BFF0-5B2C93A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76D-3D20-4498-9D14-A2DBF55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BCE60-A712-45D6-89B1-2A69492DFF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FE15E-02CB-4CDF-98AE-8D67DD656AC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4:44:06Z</dcterms:created>
  <dc:creator>최봉수</dc:creator>
  <dc:description/>
  <dc:language>en-US</dc:language>
  <cp:lastModifiedBy>맛있다 군만두</cp:lastModifiedBy>
  <dcterms:modified xsi:type="dcterms:W3CDTF">2024-10-01T03:05:15Z</dcterms:modified>
  <cp:revision>3</cp:revision>
  <dc:subject/>
  <dc:title>슬라이드 1</dc:title>
</cp:coreProperties>
</file>