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2DA5-DFD5-442D-A5FB-D0D66D73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48F9-C2B2-4117-BFFA-60CA3426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AC0F-6ECD-4A85-9448-44303EDB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7A1F-8E8D-4C41-B7BF-7B899B9E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31A8-10D0-4177-84FE-F37B8D51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FE2C-D24F-4B6D-9668-00E0D45E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F6A6-6B52-444E-B220-6AB4BF88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8A02-B7D2-46F1-94E4-FBB0AC1F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298D-CC58-46AC-A581-163041FB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AADD-7CAE-408C-9CB3-456CBCB1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0F83-FDB1-41C6-AD01-DFD2556A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CFB3-E04E-4A1D-894E-A5D34EA7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AAB6-306F-4A0E-AF9D-7797C50A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1988-59AB-420C-BBE7-04022002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72AA-2D2C-45E3-8720-7540B7C2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11DB-6E21-432E-AC38-DF648494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9DA2-27D3-40FD-BD08-0627A014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D976-3B95-4655-AE52-48EA8476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ABB9-6765-49C3-BCEE-2FA9FE47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C951-6E6D-4246-8110-C7666CE5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2E35-82A5-4EAE-BD59-7B4E64BF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3464-E5BC-4D2F-884C-443974C2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5464-7C45-4345-806E-CE3FFB10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88FC-59A7-4161-A37D-27682D8C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9844-B26C-4A15-AE05-9FCC8AFBA0C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231A-144F-4B2E-9027-8512921B230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340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 Black"/>
              </a:rPr>
              <a:t>BAB 4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 Black"/>
              </a:rPr>
              <a:t>AKUN DAN MANFAATNYA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NERACA PERCOBA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90360" y="1828440"/>
            <a:ext cx="7086600" cy="3886200"/>
          </a:xfrm>
          <a:prstGeom prst="rect">
            <a:avLst/>
          </a:prstGeom>
          <a:solidFill>
            <a:srgbClr val="006666"/>
          </a:solidFill>
          <a:ln w="38160">
            <a:solidFill>
              <a:srgbClr val="006666"/>
            </a:solidFill>
            <a:miter/>
          </a:ln>
          <a:effectLst>
            <a:outerShdw dist="107932" dir="8100000" blurRad="0" rotWithShape="0">
              <a:srgbClr val="006666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3200" spc="-1" strike="noStrike">
                <a:solidFill>
                  <a:srgbClr val="eaeaea"/>
                </a:solidFill>
                <a:latin typeface="Verdana"/>
              </a:rPr>
              <a:t>Neraca Saldo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3200" spc="-1" strike="noStrike">
                <a:solidFill>
                  <a:srgbClr val="eaeaea"/>
                </a:solidFill>
                <a:latin typeface="Verdana"/>
              </a:rPr>
              <a:t>(Neraca Percobaan)</a:t>
            </a:r>
            <a:r>
              <a:rPr b="0" lang="ms-MY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3200" spc="-1" strike="noStrike">
                <a:solidFill>
                  <a:srgbClr val="eaeaea"/>
                </a:solidFill>
                <a:latin typeface="Verdana"/>
              </a:rPr>
              <a:t>adalah suatu daftar yang berisi seluruh Akun yang ada di dalam buku besar beserta saldo akhirnya pada akhir suatu periode akuntansi tertentu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LAPORAN KEUANGA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66294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800" spc="-1" strike="noStrike">
                <a:solidFill>
                  <a:srgbClr val="eaeaea"/>
                </a:solidFill>
                <a:latin typeface="Verdana"/>
              </a:rPr>
              <a:t>Laporan Laba Rugi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800" spc="-1" strike="noStrike">
                <a:solidFill>
                  <a:srgbClr val="eaeaea"/>
                </a:solidFill>
                <a:latin typeface="Verdana"/>
              </a:rPr>
              <a:t>adalah suatu laporan yang menunjukkan kemampuan perusahaan dalam menghasilkan profit dalam suatu periode akuntansi atau satu tahu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Arial"/>
              </a:rPr>
              <a:t>LAPORAN KEUANGAN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ms-MY" sz="3200" spc="-1" strike="noStrike">
                <a:solidFill>
                  <a:srgbClr val="eaeaea"/>
                </a:solidFill>
                <a:latin typeface="Verdana"/>
              </a:rPr>
              <a:t>Laporan Perubahan Modal</a:t>
            </a:r>
            <a:r>
              <a:rPr b="0" lang="ms-MY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3200" spc="-1" strike="noStrike">
                <a:solidFill>
                  <a:srgbClr val="eaeaea"/>
                </a:solidFill>
                <a:latin typeface="Verdana"/>
              </a:rPr>
              <a:t>adalah suatu laporan yang menunjukkan perubahan modal pemilik dalam suatu periode akuntansi akibat transaksi usaha selama periode tersebu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Arial"/>
              </a:rPr>
              <a:t>LAPORAN KEUANGAN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47560" y="2362320"/>
            <a:ext cx="609588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ms-MY" sz="2800" spc="-1" strike="noStrike">
                <a:solidFill>
                  <a:srgbClr val="eaeaea"/>
                </a:solidFill>
                <a:latin typeface="Verdana"/>
              </a:rPr>
              <a:t>N e r a c a</a:t>
            </a:r>
            <a:r>
              <a:rPr b="0" lang="ms-MY" sz="2800" spc="-1" strike="noStrike">
                <a:solidFill>
                  <a:srgbClr val="eaeaea"/>
                </a:solidFill>
                <a:latin typeface="Verdana"/>
              </a:rPr>
              <a:t> adalah suatu daftar yang menunjukkan posisi sumberdaya yang dimiliki perusahaan, serta informasi dari mana sumber daya tersebut diperoleh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cc"/>
                </a:solidFill>
                <a:latin typeface="Verdana"/>
              </a:rPr>
              <a:t>”</a:t>
            </a:r>
            <a:r>
              <a:rPr b="1" lang="sv-SE" sz="2000" spc="-1" strike="noStrike">
                <a:solidFill>
                  <a:srgbClr val="ffffcc"/>
                </a:solidFill>
                <a:latin typeface="Verdana"/>
              </a:rPr>
              <a:t>Jaya” Computer Servi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cc"/>
                </a:solidFill>
                <a:latin typeface="Verdana"/>
              </a:rPr>
              <a:t>Laporan  Laba  Rugi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cc"/>
                </a:solidFill>
                <a:latin typeface="Verdana"/>
              </a:rPr>
              <a:t>Untuk Periode Yang Berakhir Tanggal 31 Desember XXX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cc"/>
                </a:solidFill>
                <a:latin typeface="Arial Black"/>
              </a:rPr>
              <a:t>---------------------------------------------------------------------------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-  Pendapatan  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                       xxx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-  Beban Operasional :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-  Beban Promosi                    xx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          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-  Beban Listrik, &amp; Telepon    xx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          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-  Gaji Karyawan                     xx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       Beban Operasional  Total            (xxx )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  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v-SE" sz="2200" spc="-1" strike="noStrike">
                <a:solidFill>
                  <a:srgbClr val="ffffcc"/>
                </a:solidFill>
                <a:latin typeface="Verdana"/>
              </a:rPr>
              <a:t>                    </a:t>
            </a:r>
            <a:r>
              <a:rPr b="1" lang="it-IT" sz="2200" spc="-1" strike="noStrike">
                <a:solidFill>
                  <a:srgbClr val="ffffcc"/>
                </a:solidFill>
                <a:latin typeface="Verdana"/>
              </a:rPr>
              <a:t>----------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cc"/>
                </a:solidFill>
                <a:latin typeface="Verdana"/>
              </a:rPr>
              <a:t>- Laba  Kotor  Sebelum  Pajak</a:t>
            </a:r>
            <a:r>
              <a:rPr b="1" lang="it-IT" sz="22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22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2200" spc="-1" strike="noStrike">
                <a:solidFill>
                  <a:srgbClr val="ffffcc"/>
                </a:solidFill>
                <a:latin typeface="Verdana"/>
              </a:rPr>
              <a:t>    xxx</a:t>
            </a:r>
            <a:r>
              <a:rPr b="1" lang="it-IT" sz="2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it-IT" sz="2800" spc="-1" strike="noStrike">
                <a:solidFill>
                  <a:srgbClr val="eaeaea"/>
                </a:solidFill>
                <a:latin typeface="Verdana"/>
              </a:rPr>
              <a:t>                  </a:t>
            </a:r>
            <a:r>
              <a:rPr b="1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Jaya  ”Computer Service”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Laporan  Perubahan  Moda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Untuk Periode Yang Berakhir Tanggal 31 Desember XXX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cc"/>
                </a:solidFill>
                <a:latin typeface="Arial Black"/>
              </a:rPr>
              <a:t>-------------------------------------------------------------------------------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-  Modal  awal  periode</a:t>
            </a: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             xxx</a:t>
            </a: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-  Laba  usaha  periode  berjalan</a:t>
            </a: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  xx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-  Prive                                                   (xx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-  Modal  akhir  periode                       </a:t>
            </a: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v-SE" sz="1800" spc="-1" strike="noStrike">
                <a:solidFill>
                  <a:srgbClr val="ffffcc"/>
                </a:solidFill>
                <a:latin typeface="Verdana"/>
              </a:rPr>
              <a:t>  xxx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sv-SE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sv-SE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sv-SE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sv-SE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sv-SE" sz="1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it-IT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5" name=""/>
          <p:cNvSpPr/>
          <p:nvPr/>
        </p:nvSpPr>
        <p:spPr>
          <a:xfrm>
            <a:off x="684360" y="1197000"/>
            <a:ext cx="7848360" cy="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643280" y="1197000"/>
            <a:ext cx="0" cy="504036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4360" y="1268280"/>
            <a:ext cx="3816360" cy="48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Aktiva Lancar :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- Kas dan Bank                                  xx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- Piutang Dagang                               xx  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- Perlengkapan Kantor                       xx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Aktiva Tetap  :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- Peralatan Kantor                               xx 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- Kendaraan                                         xx 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- Bangunan                                          xx  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- Tanah                                                 xx 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Total Aktiva                                         xxx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932360" y="1268280"/>
            <a:ext cx="367200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Hutang Jangka Pendek :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- Hutang Usaha                             xx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Hutang Jangka Panjang :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- Hutang Bank                               xx 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-  Modal  Pemilik                           xx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Total Pasiva                                    xxx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059280" y="0"/>
            <a:ext cx="3313080" cy="10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Jaya” Computer Service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N  e  r  a  c  a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Per   31  Desember  xxx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cc"/>
                </a:solidFill>
                <a:latin typeface="Verdana"/>
              </a:rPr>
              <a:t>”</a:t>
            </a:r>
            <a:r>
              <a:rPr b="1" lang="sv-SE" sz="1600" spc="-1" strike="noStrike">
                <a:solidFill>
                  <a:srgbClr val="ffffcc"/>
                </a:solidFill>
                <a:latin typeface="Verdana"/>
              </a:rPr>
              <a:t>Jaya”  Computer Service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cc"/>
                </a:solidFill>
                <a:latin typeface="Verdana"/>
              </a:rPr>
              <a:t>Laporan  Arus  Ka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cc"/>
                </a:solidFill>
                <a:latin typeface="Verdana"/>
              </a:rPr>
              <a:t>Untuk Periode Yang Berakhir Tanggal 31 Desember XXX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cc"/>
                </a:solidFill>
                <a:latin typeface="Arial Black"/>
              </a:rPr>
              <a:t>----------------------------------------------------------------------------------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Saldo Kas awal periode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xxxxx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Arus Kas Masuk :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- Penerimaan piutang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xxx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- Penerimaan penjualan  tunai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xxx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- Penerimaan pendapatan bunga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xxx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- Macam-macam kas masuk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xxx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Jumlah Kas Masuk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xxxx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Arus Kas Keluar :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- Pembelian   tunai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xxx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- Pembayaran hutang  usaha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xxx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- Pembayaran hutang  bank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xxx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- Macam-macam kas keluar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xxx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Jumlah Kas Keluar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(xxxx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*  Saldo Kas akhir periode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xxxxx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Pengertian </a:t>
            </a:r>
            <a:br>
              <a:rPr sz="23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AKU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2362320"/>
            <a:ext cx="6782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800" spc="-1" strike="noStrike">
                <a:solidFill>
                  <a:srgbClr val="eaeaea"/>
                </a:solidFill>
                <a:latin typeface="Arial"/>
              </a:rPr>
              <a:t>Akun</a:t>
            </a:r>
            <a:r>
              <a:rPr b="0" lang="ms-MY" sz="2800" spc="-1" strike="noStrike">
                <a:solidFill>
                  <a:srgbClr val="eaeaea"/>
                </a:solidFill>
                <a:latin typeface="Arial"/>
              </a:rPr>
              <a:t> adalah suatu media untuk mencatat transaksi-transaksi keuangan atau sumber daya yang dimiliki perusahaan, seperti aktiva, hutang, modal, penghasilan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800" spc="-1" strike="noStrike">
                <a:solidFill>
                  <a:srgbClr val="eaeaea"/>
                </a:solidFill>
                <a:latin typeface="Arial"/>
              </a:rPr>
              <a:t>dan beba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700" spc="-1" strike="noStrike">
                <a:solidFill>
                  <a:srgbClr val="ffffcc"/>
                </a:solidFill>
                <a:latin typeface="Arial Black"/>
              </a:rPr>
              <a:t>AKUN T</a:t>
            </a:r>
            <a:endParaRPr b="0" lang="en-US" sz="3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58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362320" y="2133720"/>
            <a:ext cx="4724280" cy="3276360"/>
            <a:chOff x="2362320" y="2133720"/>
            <a:chExt cx="4724280" cy="3276360"/>
          </a:xfrm>
        </p:grpSpPr>
        <p:sp>
          <p:nvSpPr>
            <p:cNvPr id="122" name=""/>
            <p:cNvSpPr/>
            <p:nvPr/>
          </p:nvSpPr>
          <p:spPr>
            <a:xfrm>
              <a:off x="3429000" y="2133720"/>
              <a:ext cx="2590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eaeaea"/>
                  </a:solidFill>
                  <a:latin typeface="Arial"/>
                </a:rPr>
                <a:t>Nama Perkiraan</a:t>
              </a:r>
              <a:endParaRPr b="0" lang="en-US" sz="2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62320" y="2590920"/>
              <a:ext cx="47242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4571640" y="2590920"/>
              <a:ext cx="19080" cy="281916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95480" y="27432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Sisi Debet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24280" y="27432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Sisi Kredit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cc"/>
                </a:solidFill>
                <a:latin typeface="Arial Black"/>
              </a:rPr>
              <a:t>AKUN DUA KOLOM</a:t>
            </a:r>
            <a:endParaRPr b="0" lang="en-US" sz="3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35720" y="5767560"/>
            <a:ext cx="20955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Saldo Kredi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97120" y="5767560"/>
            <a:ext cx="11322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5767560"/>
            <a:ext cx="22255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Saldo Debe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35720" y="5372280"/>
            <a:ext cx="20955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Total Kredi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35680" y="5372280"/>
            <a:ext cx="500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97120" y="5372280"/>
            <a:ext cx="11322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5372280"/>
            <a:ext cx="22255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Total Debe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48520" y="4976640"/>
            <a:ext cx="4827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97120" y="4976640"/>
            <a:ext cx="11322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12920" y="4976640"/>
            <a:ext cx="4842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31280" y="4581360"/>
            <a:ext cx="1131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48520" y="4581360"/>
            <a:ext cx="4827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29320" y="4495680"/>
            <a:ext cx="306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7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4481640"/>
            <a:ext cx="325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4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48520" y="4186080"/>
            <a:ext cx="4827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9320" y="4038480"/>
            <a:ext cx="306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5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038480"/>
            <a:ext cx="325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3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48520" y="3790800"/>
            <a:ext cx="4827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29320" y="3619440"/>
            <a:ext cx="306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4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3581280"/>
            <a:ext cx="325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48520" y="3090960"/>
            <a:ext cx="4827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35720" y="3090960"/>
            <a:ext cx="1612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3124080"/>
            <a:ext cx="685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J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29320" y="3090960"/>
            <a:ext cx="306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9880" y="3090960"/>
            <a:ext cx="74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J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6680" y="3090960"/>
            <a:ext cx="325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29320" y="2695680"/>
            <a:ext cx="806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2006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9040" y="2695680"/>
            <a:ext cx="838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2006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12920" y="2300400"/>
            <a:ext cx="4842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1280" y="1752480"/>
            <a:ext cx="11318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Kredi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1752480"/>
            <a:ext cx="7002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Ref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87920" y="1752480"/>
            <a:ext cx="16131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Keterang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53000" y="1771560"/>
            <a:ext cx="11383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Tangg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97120" y="1771560"/>
            <a:ext cx="11322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Debe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17880" y="1771560"/>
            <a:ext cx="620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Ref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33440" y="1771560"/>
            <a:ext cx="17416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Keterang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752480"/>
            <a:ext cx="12189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Tangg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600200"/>
            <a:ext cx="84582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600200"/>
            <a:ext cx="0" cy="7002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763120" y="1600200"/>
            <a:ext cx="0" cy="7002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2300400"/>
            <a:ext cx="0" cy="39528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1600200"/>
            <a:ext cx="0" cy="7002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36960" y="1600200"/>
            <a:ext cx="0" cy="7002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97120" y="1600200"/>
            <a:ext cx="0" cy="7002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91160" y="1600200"/>
            <a:ext cx="0" cy="7002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76840" y="1600200"/>
            <a:ext cx="0" cy="7002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48520" y="1600200"/>
            <a:ext cx="0" cy="7002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1600200"/>
            <a:ext cx="0" cy="7002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763120" y="2300400"/>
            <a:ext cx="0" cy="39528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2695680"/>
            <a:ext cx="0" cy="34671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300400"/>
            <a:ext cx="0" cy="39528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29040" y="2300400"/>
            <a:ext cx="0" cy="39528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97120" y="2300400"/>
            <a:ext cx="0" cy="39528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91160" y="2300400"/>
            <a:ext cx="0" cy="39528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76840" y="2300400"/>
            <a:ext cx="0" cy="39528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48520" y="2300400"/>
            <a:ext cx="0" cy="39528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96080" y="2300400"/>
            <a:ext cx="0" cy="39528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763120" y="2695680"/>
            <a:ext cx="0" cy="34671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2695680"/>
            <a:ext cx="0" cy="34671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36960" y="2695680"/>
            <a:ext cx="0" cy="26766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97120" y="2695680"/>
            <a:ext cx="0" cy="34671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91160" y="2695680"/>
            <a:ext cx="0" cy="34671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88000" y="2695680"/>
            <a:ext cx="0" cy="34671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48520" y="2695680"/>
            <a:ext cx="0" cy="26766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2695680"/>
            <a:ext cx="0" cy="34671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3581280"/>
            <a:ext cx="82296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58960" y="3090960"/>
            <a:ext cx="0" cy="3071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35680" y="3090960"/>
            <a:ext cx="0" cy="3071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4038480"/>
            <a:ext cx="82296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4495680"/>
            <a:ext cx="82296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4952880"/>
            <a:ext cx="82296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3067200"/>
            <a:ext cx="8458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2685960"/>
            <a:ext cx="8458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286000"/>
            <a:ext cx="8458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3581280"/>
            <a:ext cx="8458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4038480"/>
            <a:ext cx="8458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4495680"/>
            <a:ext cx="8458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5372280"/>
            <a:ext cx="8458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4952880"/>
            <a:ext cx="8458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6172200"/>
            <a:ext cx="8458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5753160"/>
            <a:ext cx="8458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cc"/>
                </a:solidFill>
                <a:latin typeface="Arial Black"/>
              </a:rPr>
              <a:t>AKUN EMPAT KOLOM</a:t>
            </a:r>
            <a:endParaRPr b="0" lang="en-US" sz="3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222408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686800" y="222408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10320" y="2452680"/>
            <a:ext cx="1176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35640" y="2452680"/>
            <a:ext cx="1174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59520" y="2452680"/>
            <a:ext cx="1176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79800" y="2452680"/>
            <a:ext cx="1179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76520" y="2452680"/>
            <a:ext cx="503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2452680"/>
            <a:ext cx="2181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2452680"/>
            <a:ext cx="838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10320" y="1843200"/>
            <a:ext cx="1176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Kredi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35640" y="1843200"/>
            <a:ext cx="117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Debe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35640" y="1447920"/>
            <a:ext cx="23511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S a l d 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59520" y="1447920"/>
            <a:ext cx="1176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Kredi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79800" y="1447920"/>
            <a:ext cx="11797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Debe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43320" y="1447920"/>
            <a:ext cx="7905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Ref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1447920"/>
            <a:ext cx="2181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Keterang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1447920"/>
            <a:ext cx="12193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Tangg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1447920"/>
            <a:ext cx="83818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1447920"/>
            <a:ext cx="0" cy="1004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686800" y="1447920"/>
            <a:ext cx="0" cy="1004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71600" y="1447920"/>
            <a:ext cx="0" cy="1004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79800" y="1447920"/>
            <a:ext cx="0" cy="1004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76520" y="1447920"/>
            <a:ext cx="0" cy="1004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59520" y="1447920"/>
            <a:ext cx="0" cy="1004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35640" y="1447920"/>
            <a:ext cx="0" cy="1004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10320" y="1843200"/>
            <a:ext cx="0" cy="6094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35640" y="1843200"/>
            <a:ext cx="23511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2438280"/>
            <a:ext cx="83818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10320" y="5915160"/>
            <a:ext cx="1176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335640" y="5915160"/>
            <a:ext cx="1174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59520" y="5915160"/>
            <a:ext cx="1176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79800" y="5915160"/>
            <a:ext cx="1179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76520" y="5915160"/>
            <a:ext cx="503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5915160"/>
            <a:ext cx="2181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95240" y="5915160"/>
            <a:ext cx="500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5915160"/>
            <a:ext cx="338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10320" y="5519880"/>
            <a:ext cx="1176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35640" y="5519880"/>
            <a:ext cx="1174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59520" y="5519880"/>
            <a:ext cx="1176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79800" y="5519880"/>
            <a:ext cx="1179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76520" y="5519880"/>
            <a:ext cx="503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5280" y="5519880"/>
            <a:ext cx="2181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95240" y="5519880"/>
            <a:ext cx="500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5519880"/>
            <a:ext cx="338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10320" y="5124600"/>
            <a:ext cx="1176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35640" y="5124600"/>
            <a:ext cx="1174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59520" y="5124600"/>
            <a:ext cx="1176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79800" y="5124600"/>
            <a:ext cx="1179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76520" y="5124600"/>
            <a:ext cx="503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5124600"/>
            <a:ext cx="2181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95240" y="5124600"/>
            <a:ext cx="500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5124600"/>
            <a:ext cx="338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10320" y="4729320"/>
            <a:ext cx="1176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35640" y="4729320"/>
            <a:ext cx="1174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59520" y="4729320"/>
            <a:ext cx="1176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79800" y="4729320"/>
            <a:ext cx="1179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76520" y="4729320"/>
            <a:ext cx="503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4729320"/>
            <a:ext cx="2181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95240" y="4729320"/>
            <a:ext cx="500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729320"/>
            <a:ext cx="338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510320" y="4334040"/>
            <a:ext cx="1176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35640" y="4334040"/>
            <a:ext cx="1174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59520" y="4334040"/>
            <a:ext cx="1176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979800" y="4334040"/>
            <a:ext cx="1179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76520" y="4334040"/>
            <a:ext cx="503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95280" y="4334040"/>
            <a:ext cx="2181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95240" y="4334040"/>
            <a:ext cx="500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4334040"/>
            <a:ext cx="338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4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510320" y="3938760"/>
            <a:ext cx="1176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35640" y="3938760"/>
            <a:ext cx="1174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59520" y="3938760"/>
            <a:ext cx="1176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79800" y="3938760"/>
            <a:ext cx="1179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76520" y="3938760"/>
            <a:ext cx="503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3938760"/>
            <a:ext cx="2181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95240" y="3938760"/>
            <a:ext cx="500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3938760"/>
            <a:ext cx="338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3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510320" y="3543480"/>
            <a:ext cx="1176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335640" y="3543480"/>
            <a:ext cx="1174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59520" y="3543480"/>
            <a:ext cx="1176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79800" y="3543480"/>
            <a:ext cx="1179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76520" y="3543480"/>
            <a:ext cx="503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95280" y="3543480"/>
            <a:ext cx="2181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95240" y="3543480"/>
            <a:ext cx="500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3543480"/>
            <a:ext cx="338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10320" y="2843280"/>
            <a:ext cx="11764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335640" y="2843280"/>
            <a:ext cx="11746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59520" y="2843280"/>
            <a:ext cx="11761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76520" y="2843280"/>
            <a:ext cx="5032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295280" y="2843280"/>
            <a:ext cx="21812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7080" y="2843280"/>
            <a:ext cx="7290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J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7760" y="2843280"/>
            <a:ext cx="3380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510320" y="2448000"/>
            <a:ext cx="1176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335640" y="2448000"/>
            <a:ext cx="1174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59520" y="2448000"/>
            <a:ext cx="1176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476520" y="2448000"/>
            <a:ext cx="503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2448000"/>
            <a:ext cx="2181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2448000"/>
            <a:ext cx="838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2006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5124600"/>
            <a:ext cx="82296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04920" y="2448000"/>
            <a:ext cx="0" cy="3862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2448000"/>
            <a:ext cx="0" cy="3862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76520" y="2448000"/>
            <a:ext cx="0" cy="3862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79800" y="2448000"/>
            <a:ext cx="0" cy="3862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59520" y="2448000"/>
            <a:ext cx="0" cy="3862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35640" y="2448000"/>
            <a:ext cx="0" cy="3862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10320" y="2448000"/>
            <a:ext cx="0" cy="3862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686800" y="2448000"/>
            <a:ext cx="0" cy="3862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3543480"/>
            <a:ext cx="82296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5124600"/>
            <a:ext cx="82296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4920" y="2438280"/>
            <a:ext cx="83818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920" y="2876400"/>
            <a:ext cx="83818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4920" y="3543480"/>
            <a:ext cx="83818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3924360"/>
            <a:ext cx="83818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3924360"/>
            <a:ext cx="83818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4724280"/>
            <a:ext cx="83818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5524560"/>
            <a:ext cx="83818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4920" y="5905440"/>
            <a:ext cx="83818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4920" y="6305400"/>
            <a:ext cx="83818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920" y="4324320"/>
            <a:ext cx="83818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2876400"/>
            <a:ext cx="0" cy="3429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PENGELOMPOKAN AKU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800" spc="-1" strike="noStrike">
                <a:solidFill>
                  <a:srgbClr val="eaeaea"/>
                </a:solidFill>
                <a:latin typeface="Verdana"/>
              </a:rPr>
              <a:t>Akun-akun neraca atau disebut juga akun riil</a:t>
            </a:r>
            <a:r>
              <a:rPr b="0" lang="ms-MY" sz="2800" spc="-1" strike="noStrike">
                <a:solidFill>
                  <a:srgbClr val="eaeaea"/>
                </a:solidFill>
                <a:latin typeface="Verdana"/>
              </a:rPr>
              <a:t>,yaitu semua Akun yang terdapat di dalam neraca, seperti Akun aktiva, Akun hutang dan Akun modal.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800" spc="-1" strike="noStrike">
                <a:solidFill>
                  <a:srgbClr val="eaeaea"/>
                </a:solidFill>
                <a:latin typeface="Verdana"/>
              </a:rPr>
              <a:t>Akun-akun laba rugi atau disebut juga akun nominal</a:t>
            </a:r>
            <a:r>
              <a:rPr b="0" lang="ms-MY" sz="2800" spc="-1" strike="noStrike">
                <a:solidFill>
                  <a:srgbClr val="eaeaea"/>
                </a:solidFill>
                <a:latin typeface="Verdana"/>
              </a:rPr>
              <a:t>, yaitu semua Akun yang terdapat di dalam laporan rugi laba, yang mencakup Akun pendapatan dan Akun beban.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505320" y="152280"/>
            <a:ext cx="1752480" cy="1067040"/>
          </a:xfrm>
          <a:prstGeom prst="rect">
            <a:avLst/>
          </a:prstGeom>
          <a:solidFill>
            <a:srgbClr val="cc66ff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Buku Bes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57800" y="68580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28800" y="685800"/>
            <a:ext cx="0" cy="83808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934320" y="685800"/>
            <a:ext cx="0" cy="83808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1638360"/>
            <a:ext cx="3124080" cy="838080"/>
          </a:xfrm>
          <a:prstGeom prst="rect">
            <a:avLst/>
          </a:prstGeom>
          <a:solidFill>
            <a:srgbClr val="cc0099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kun Ril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085760" y="4419720"/>
            <a:ext cx="1447920" cy="838080"/>
          </a:xfrm>
          <a:prstGeom prst="rect">
            <a:avLst/>
          </a:prstGeom>
          <a:solidFill>
            <a:srgbClr val="33cc33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ku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Huta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04840" y="3029040"/>
            <a:ext cx="1447920" cy="838080"/>
          </a:xfrm>
          <a:prstGeom prst="rect">
            <a:avLst/>
          </a:prstGeom>
          <a:solidFill>
            <a:srgbClr val="0066ff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ku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ktiv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210360" y="4419720"/>
            <a:ext cx="1790640" cy="838080"/>
          </a:xfrm>
          <a:prstGeom prst="rect">
            <a:avLst/>
          </a:prstGeom>
          <a:solidFill>
            <a:srgbClr val="33cc33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ku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Beb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029040"/>
            <a:ext cx="1828800" cy="838080"/>
          </a:xfrm>
          <a:prstGeom prst="rect">
            <a:avLst/>
          </a:prstGeom>
          <a:solidFill>
            <a:srgbClr val="0066ff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ku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endapat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85760" y="5848200"/>
            <a:ext cx="1447920" cy="838440"/>
          </a:xfrm>
          <a:prstGeom prst="rect">
            <a:avLst/>
          </a:prstGeom>
          <a:solidFill>
            <a:srgbClr val="cc0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ku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od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181480" y="1638360"/>
            <a:ext cx="3124440" cy="838080"/>
          </a:xfrm>
          <a:prstGeom prst="rect">
            <a:avLst/>
          </a:prstGeom>
          <a:solidFill>
            <a:srgbClr val="cc0099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kun  Nomin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28800" y="251460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934320" y="251460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09720" y="390528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09720" y="525780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934320" y="392436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828800" y="685800"/>
            <a:ext cx="1676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EDOMAN PENGISIAN AKU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219320" y="1981080"/>
            <a:ext cx="6400800" cy="3429000"/>
            <a:chOff x="1219320" y="1981080"/>
            <a:chExt cx="6400800" cy="3429000"/>
          </a:xfrm>
        </p:grpSpPr>
        <p:grpSp>
          <p:nvGrpSpPr>
            <p:cNvPr id="350" name=""/>
            <p:cNvGrpSpPr/>
            <p:nvPr/>
          </p:nvGrpSpPr>
          <p:grpSpPr>
            <a:xfrm>
              <a:off x="1219320" y="1981080"/>
              <a:ext cx="1676160" cy="1524240"/>
              <a:chOff x="1219320" y="1981080"/>
              <a:chExt cx="1676160" cy="1524240"/>
            </a:xfrm>
          </p:grpSpPr>
          <p:grpSp>
            <p:nvGrpSpPr>
              <p:cNvPr id="351" name=""/>
              <p:cNvGrpSpPr/>
              <p:nvPr/>
            </p:nvGrpSpPr>
            <p:grpSpPr>
              <a:xfrm>
                <a:off x="1219320" y="2362320"/>
                <a:ext cx="1676160" cy="1143000"/>
                <a:chOff x="1219320" y="2362320"/>
                <a:chExt cx="1676160" cy="114300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1219320" y="2362320"/>
                  <a:ext cx="1676160" cy="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057400" y="2362320"/>
                  <a:ext cx="0" cy="114300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600200" y="2362320"/>
                  <a:ext cx="304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eaeaea"/>
                      </a:solidFill>
                      <a:latin typeface="Arial"/>
                    </a:rPr>
                    <a:t>+</a:t>
                  </a:r>
                  <a:endParaRPr b="0" lang="en-US" sz="2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209680" y="275760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eaeaea"/>
                      </a:solidFill>
                      <a:latin typeface="Arial"/>
                    </a:rPr>
                    <a:t>-</a:t>
                  </a:r>
                  <a:endParaRPr b="0" lang="en-US" sz="2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1676520" y="1981080"/>
                <a:ext cx="114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Arial"/>
                  </a:rPr>
                  <a:t>Aktiva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3505320" y="1981080"/>
              <a:ext cx="1676520" cy="1523880"/>
              <a:chOff x="3505320" y="1981080"/>
              <a:chExt cx="1676520" cy="1523880"/>
            </a:xfrm>
          </p:grpSpPr>
          <p:sp>
            <p:nvSpPr>
              <p:cNvPr id="358" name=""/>
              <p:cNvSpPr/>
              <p:nvPr/>
            </p:nvSpPr>
            <p:spPr>
              <a:xfrm>
                <a:off x="3886560" y="1981080"/>
                <a:ext cx="106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Arial"/>
                  </a:rPr>
                  <a:t>Hutang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3505320" y="2361960"/>
                <a:ext cx="1676520" cy="1143000"/>
                <a:chOff x="3505320" y="2361960"/>
                <a:chExt cx="1676520" cy="114300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3505320" y="2361960"/>
                  <a:ext cx="1676520" cy="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343400" y="2361960"/>
                  <a:ext cx="0" cy="114300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4438800" y="2381040"/>
                  <a:ext cx="304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eaeaea"/>
                      </a:solidFill>
                      <a:latin typeface="Arial"/>
                    </a:rPr>
                    <a:t>+</a:t>
                  </a:r>
                  <a:endParaRPr b="0" lang="en-US" sz="2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886200" y="281916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eaeaea"/>
                      </a:solidFill>
                      <a:latin typeface="Arial"/>
                    </a:rPr>
                    <a:t>-</a:t>
                  </a:r>
                  <a:endParaRPr b="0" lang="en-US" sz="2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4" name=""/>
            <p:cNvGrpSpPr/>
            <p:nvPr/>
          </p:nvGrpSpPr>
          <p:grpSpPr>
            <a:xfrm>
              <a:off x="5867640" y="2000160"/>
              <a:ext cx="1676160" cy="1504800"/>
              <a:chOff x="5867640" y="2000160"/>
              <a:chExt cx="1676160" cy="150480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5867640" y="2361960"/>
                <a:ext cx="1676160" cy="1143000"/>
                <a:chOff x="5867640" y="2361960"/>
                <a:chExt cx="1676160" cy="114300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5867640" y="2361960"/>
                  <a:ext cx="1676160" cy="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705360" y="2361960"/>
                  <a:ext cx="0" cy="114300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800760" y="2381040"/>
                  <a:ext cx="304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eaeaea"/>
                      </a:solidFill>
                      <a:latin typeface="Arial"/>
                    </a:rPr>
                    <a:t>+</a:t>
                  </a:r>
                  <a:endParaRPr b="0" lang="en-US" sz="2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248160" y="281916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eaeaea"/>
                      </a:solidFill>
                      <a:latin typeface="Arial"/>
                    </a:rPr>
                    <a:t>-</a:t>
                  </a:r>
                  <a:endParaRPr b="0" lang="en-US" sz="2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0" name=""/>
              <p:cNvSpPr/>
              <p:nvPr/>
            </p:nvSpPr>
            <p:spPr>
              <a:xfrm>
                <a:off x="6324840" y="2000160"/>
                <a:ext cx="114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Arial"/>
                  </a:rPr>
                  <a:t>Modal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1219320" y="3886200"/>
              <a:ext cx="1676520" cy="1523880"/>
              <a:chOff x="1219320" y="3886200"/>
              <a:chExt cx="1676520" cy="152388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1219320" y="4267080"/>
                <a:ext cx="1676520" cy="1143000"/>
                <a:chOff x="1219320" y="4267080"/>
                <a:chExt cx="1676520" cy="114300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1219320" y="4267080"/>
                  <a:ext cx="1676520" cy="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057400" y="4267080"/>
                  <a:ext cx="0" cy="114300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152800" y="4286160"/>
                  <a:ext cx="304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eaeaea"/>
                      </a:solidFill>
                      <a:latin typeface="Arial"/>
                    </a:rPr>
                    <a:t>+</a:t>
                  </a:r>
                  <a:endParaRPr b="0" lang="en-US" sz="2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600200" y="472428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eaeaea"/>
                      </a:solidFill>
                      <a:latin typeface="Arial"/>
                    </a:rPr>
                    <a:t>-</a:t>
                  </a:r>
                  <a:endParaRPr b="0" lang="en-US" sz="2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"/>
              <p:cNvSpPr/>
              <p:nvPr/>
            </p:nvSpPr>
            <p:spPr>
              <a:xfrm>
                <a:off x="1467000" y="388620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Arial"/>
                  </a:rPr>
                  <a:t>Penjualan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3505320" y="3886200"/>
              <a:ext cx="1676160" cy="1523520"/>
              <a:chOff x="3505320" y="3886200"/>
              <a:chExt cx="1676160" cy="152352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3505320" y="4267080"/>
                <a:ext cx="1676160" cy="1142640"/>
                <a:chOff x="3505320" y="4267080"/>
                <a:chExt cx="1676160" cy="11426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3505320" y="4267080"/>
                  <a:ext cx="1676160" cy="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343400" y="4267080"/>
                  <a:ext cx="0" cy="114264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886200" y="4267080"/>
                  <a:ext cx="304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eaeaea"/>
                      </a:solidFill>
                      <a:latin typeface="Arial"/>
                    </a:rPr>
                    <a:t>+</a:t>
                  </a:r>
                  <a:endParaRPr b="0" lang="en-US" sz="2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495680" y="466200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eaeaea"/>
                      </a:solidFill>
                      <a:latin typeface="Arial"/>
                    </a:rPr>
                    <a:t>-</a:t>
                  </a:r>
                  <a:endParaRPr b="0" lang="en-US" sz="2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" name=""/>
              <p:cNvSpPr/>
              <p:nvPr/>
            </p:nvSpPr>
            <p:spPr>
              <a:xfrm>
                <a:off x="3924360" y="3886200"/>
                <a:ext cx="12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Arial"/>
                  </a:rPr>
                  <a:t>Beban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791320" y="3886200"/>
              <a:ext cx="1828800" cy="1523880"/>
              <a:chOff x="5791320" y="3886200"/>
              <a:chExt cx="1828800" cy="1523880"/>
            </a:xfrm>
          </p:grpSpPr>
          <p:grpSp>
            <p:nvGrpSpPr>
              <p:cNvPr id="386" name=""/>
              <p:cNvGrpSpPr/>
              <p:nvPr/>
            </p:nvGrpSpPr>
            <p:grpSpPr>
              <a:xfrm>
                <a:off x="5829480" y="4267080"/>
                <a:ext cx="1676160" cy="1143000"/>
                <a:chOff x="5829480" y="4267080"/>
                <a:chExt cx="1676160" cy="114300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5829480" y="4267080"/>
                  <a:ext cx="1676160" cy="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667560" y="4267080"/>
                  <a:ext cx="0" cy="114300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210360" y="4267080"/>
                  <a:ext cx="304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eaeaea"/>
                      </a:solidFill>
                      <a:latin typeface="Arial"/>
                    </a:rPr>
                    <a:t>+</a:t>
                  </a:r>
                  <a:endParaRPr b="0" lang="en-US" sz="2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819840" y="466236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eaeaea"/>
                      </a:solidFill>
                      <a:latin typeface="Arial"/>
                    </a:rPr>
                    <a:t>-</a:t>
                  </a:r>
                  <a:endParaRPr b="0" lang="en-US" sz="2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>
                <a:off x="5791320" y="3886200"/>
                <a:ext cx="182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Arial"/>
                  </a:rPr>
                  <a:t>Prive / Diveden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BUKU BESAR (</a:t>
            </a:r>
            <a:r>
              <a:rPr b="0" i="1" lang="en-US" sz="2800" spc="-1" strike="noStrike">
                <a:solidFill>
                  <a:srgbClr val="ffffcc"/>
                </a:solidFill>
                <a:latin typeface="Arial Black"/>
              </a:rPr>
              <a:t>GENERAL LEDGER</a:t>
            </a: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781680" cy="3124440"/>
          </a:xfrm>
          <a:prstGeom prst="rect">
            <a:avLst/>
          </a:prstGeom>
          <a:solidFill>
            <a:srgbClr val="006666"/>
          </a:solidFill>
          <a:ln w="38160">
            <a:solidFill>
              <a:srgbClr val="0066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3200" spc="-1" strike="noStrike">
                <a:solidFill>
                  <a:srgbClr val="eaeaea"/>
                </a:solidFill>
                <a:latin typeface="Verdana"/>
              </a:rPr>
              <a:t>Buku Besar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3200" spc="-1" strike="noStrike">
                <a:solidFill>
                  <a:srgbClr val="eaeaea"/>
                </a:solidFill>
                <a:latin typeface="Verdana"/>
              </a:rPr>
              <a:t>adalah kumpulan dari semua Akun/perkiraan yang dimiliki suatu perusahaan yang saling berhubungan satu dengan lainnya dan merupakan suatu kesatuan.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6:32:25Z</dcterms:created>
  <dc:creator>Owner</dc:creator>
  <dc:description/>
  <dc:language>en-US</dc:language>
  <cp:lastModifiedBy>Owner</cp:lastModifiedBy>
  <dcterms:modified xsi:type="dcterms:W3CDTF">2009-04-22T05:44:09Z</dcterms:modified>
  <cp:revision>15</cp:revision>
  <dc:subject/>
  <dc:title>BAB 4</dc:title>
</cp:coreProperties>
</file>