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041-3538-450C-AD7D-8D56E8C0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86D-D196-49AC-9AA9-A34CD909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A5F-4430-476A-80B9-EBEF9960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4F9-0990-4FEB-BB4F-98552C52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B43-4D0C-4A44-8E44-1E05F943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E9FA-2615-48A5-855A-F1511B7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267-8744-4320-AC0F-38748EB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B24F-D54F-4EB1-9590-5249FFF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DABC-07BA-4D26-94B6-DAC7A89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592F-EC79-4E77-9AEB-3DB4AF0D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30AD-9624-4054-AEC8-917BDD4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D03-74EE-4B80-AD7A-E76668DE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5CB-19D6-4655-BC74-A3DC5A6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DD84-3C88-40EE-AD23-D0204C6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452B-E18A-4A34-B1D5-EFCCBC33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AC1A-AF16-4967-87F5-09196EF4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B40A-6B38-42E4-B76D-2D33371B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6EB-A09D-4C5B-B100-56C098B2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CD7-8A56-435D-B670-AFD0B47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633-ACAC-458E-88E7-07854FCF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EDA-6214-458E-8E91-7CA1234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C9F-27AA-4CFD-9C1C-809F938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DDD-4DD9-4B7A-BBE9-A8FDCAB7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A30-A72C-42D6-8732-2E2AF53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03B4-5183-4B7E-969B-1A2161775C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D09F-F12B-4A46-A2AE-468BD8AB9D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 Black"/>
              </a:rPr>
              <a:t>BAB 4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 Black"/>
              </a:rPr>
              <a:t>AKUN DAN MANFAATNY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NERACA PERCOBA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086600" cy="3886200"/>
          </a:xfrm>
          <a:prstGeom prst="rect">
            <a:avLst/>
          </a:prstGeom>
          <a:solidFill>
            <a:srgbClr val="006666"/>
          </a:solidFill>
          <a:ln w="38160">
            <a:solidFill>
              <a:srgbClr val="006666"/>
            </a:solidFill>
            <a:miter/>
          </a:ln>
          <a:effectLst>
            <a:outerShdw dist="107932" dir="8100000" blurRad="0" rotWithShape="0">
              <a:srgbClr val="0066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Neraca Sald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(Neraca Percobaan)</a:t>
            </a: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adalah suatu daftar yang berisi seluruh Akun yang ada di dalam buku besar beserta saldo akhirnya pada akhir suatu periode akuntansi tertentu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LAPORAN KEUANG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66294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Laporan Laba Rug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adalah suatu laporan yang menunjukkan kemampuan perusahaan dalam menghasilkan profit dalam suatu periode akuntansi atau satu tahu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LAPORAN KEUANGA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Laporan Perubahan Modal</a:t>
            </a: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adalah suatu laporan yang menunjukkan perubahan modal pemilik dalam suatu periode akuntansi akibat transaksi usaha selama periode terse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LAPORAN KEUANGA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47560" y="2362320"/>
            <a:ext cx="609588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N e r a c a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 adalah suatu daftar yang menunjukkan posisi sumberdaya yang dimiliki perusahaan, serta informasi dari mana sumber daya tersebut diperoleh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Jaya” Computer Serv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Laporan  Laba  Rug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Pendapatan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             xxx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Operasional 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Promosi                    xx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Listrik, &amp; Telepon    xx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Gaji Karyawan                     xx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Beban Operasional  Total            (xxx )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          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----------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- Laba  Kotor  Sebelum  Pajak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    xxx</a:t>
            </a:r>
            <a:r>
              <a:rPr b="1" lang="it-IT" sz="2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Jaya  ”Computer Service”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Laporan  Perubahan  Mod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---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Modal  awal  periode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         xxx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Laba  usaha  periode  berjalan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Prive                                                   (xx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Modal  akhir  periode                   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x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1197000"/>
            <a:ext cx="784836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1197000"/>
            <a:ext cx="0" cy="504036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4360" y="1268280"/>
            <a:ext cx="381636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Aktiva Lancar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Kas dan Bank       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iutang Dagang                               xx 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erlengkapan Kantor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Aktiva Tetap 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eralatan Kantor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Kendaraan          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Bangunan                                          xx 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Tanah                  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Total Aktiva                                       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32360" y="1268280"/>
            <a:ext cx="36720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Hutang Jangka Pendek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Hutang Usaha  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Hutang Jangka Panjang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Hutang Bank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 Modal  Pemilik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Total Pasiva                                  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59280" y="0"/>
            <a:ext cx="33130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Jaya” Computer Service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N  e  r  a  c  a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Per   31  Desember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Jaya”  Computer Servi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Laporan  Arus  K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-------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Saldo Kas awal period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Arus Kas Masuk :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iutang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enjualan  tuna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endapatan bunga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Macam-macam kas masu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Jumlah Kas Masu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Arus Kas Keluar :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elian   tuna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ayaran hutang  usaha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ayaran hutang  ban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Macam-macam kas keluar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Jumlah Kas Keluar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(xxxx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*  Saldo Kas akhir period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Pengertian </a:t>
            </a:r>
            <a:br>
              <a:rPr sz="23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KU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362320"/>
            <a:ext cx="678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Arial"/>
              </a:rPr>
              <a:t>Akun</a:t>
            </a:r>
            <a:r>
              <a:rPr b="0" lang="ms-MY" sz="2800" spc="-1" strike="noStrike">
                <a:solidFill>
                  <a:srgbClr val="eaeaea"/>
                </a:solidFill>
                <a:latin typeface="Arial"/>
              </a:rPr>
              <a:t> adalah suatu media untuk mencatat transaksi-transaksi keuangan atau sumber daya yang dimiliki perusahaan, seperti aktiva, hutang, modal, penghasil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eaeaea"/>
                </a:solidFill>
                <a:latin typeface="Arial"/>
              </a:rPr>
              <a:t>dan beba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T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2133720"/>
            <a:ext cx="4724280" cy="3276360"/>
            <a:chOff x="2362320" y="2133720"/>
            <a:chExt cx="4724280" cy="3276360"/>
          </a:xfrm>
        </p:grpSpPr>
        <p:sp>
          <p:nvSpPr>
            <p:cNvPr id="122" name=""/>
            <p:cNvSpPr/>
            <p:nvPr/>
          </p:nvSpPr>
          <p:spPr>
            <a:xfrm>
              <a:off x="3429000" y="2133720"/>
              <a:ext cx="259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Arial"/>
                </a:rPr>
                <a:t>Nama Perkiraan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2590920"/>
              <a:ext cx="4724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71640" y="2590920"/>
              <a:ext cx="19080" cy="2819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Sisi Debet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Sisi Kredit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DUA KOLOM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35720" y="5767560"/>
            <a:ext cx="2095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aldo 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97120" y="5767560"/>
            <a:ext cx="1132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767560"/>
            <a:ext cx="2225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aldo 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5720" y="5372280"/>
            <a:ext cx="2095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otal 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5680" y="53722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97120" y="5372280"/>
            <a:ext cx="1132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372280"/>
            <a:ext cx="2225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otal 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48520" y="4976640"/>
            <a:ext cx="482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7120" y="4976640"/>
            <a:ext cx="1132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2920" y="4976640"/>
            <a:ext cx="484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1280" y="4581360"/>
            <a:ext cx="113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48520" y="458136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9320" y="449568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48164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48520" y="418608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9320" y="403848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03848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48520" y="379080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9320" y="361944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58128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8520" y="3090960"/>
            <a:ext cx="482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35720" y="3090960"/>
            <a:ext cx="1612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124080"/>
            <a:ext cx="685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9320" y="3090960"/>
            <a:ext cx="306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3090960"/>
            <a:ext cx="74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3090960"/>
            <a:ext cx="32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9320" y="2695680"/>
            <a:ext cx="806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040" y="2695680"/>
            <a:ext cx="838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12920" y="2300400"/>
            <a:ext cx="484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1280" y="1752480"/>
            <a:ext cx="1131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1752480"/>
            <a:ext cx="700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7920" y="1752480"/>
            <a:ext cx="16131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53000" y="1771560"/>
            <a:ext cx="1138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7120" y="1771560"/>
            <a:ext cx="1132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7880" y="1771560"/>
            <a:ext cx="620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3440" y="1771560"/>
            <a:ext cx="1741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752480"/>
            <a:ext cx="1218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600200"/>
            <a:ext cx="8458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3696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71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9116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7684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485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631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2904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971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116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7684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485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631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6960" y="2695680"/>
            <a:ext cx="0" cy="2676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971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116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8800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8520" y="2695680"/>
            <a:ext cx="0" cy="2676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812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3090960"/>
            <a:ext cx="0" cy="3071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5680" y="3090960"/>
            <a:ext cx="0" cy="3071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0384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956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30672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68596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0384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44956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53722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9528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1722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575316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EMPAT KOLOM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240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22240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10320" y="24526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5640" y="24526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59520" y="24526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79800" y="24526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76520" y="24526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4526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45268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10320" y="1843200"/>
            <a:ext cx="1176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35640" y="1843200"/>
            <a:ext cx="117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5640" y="1447920"/>
            <a:ext cx="2351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S a l d 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59520" y="1447920"/>
            <a:ext cx="1176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79800" y="1447920"/>
            <a:ext cx="1179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3320" y="1447920"/>
            <a:ext cx="790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1447920"/>
            <a:ext cx="21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44792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798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765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95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564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10320" y="1843200"/>
            <a:ext cx="0" cy="60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1843200"/>
            <a:ext cx="23511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438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10320" y="591516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35640" y="591516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9520" y="591516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79800" y="591516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6520" y="591516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591516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240" y="591516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91516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10320" y="55198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5640" y="55198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59520" y="55198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9800" y="55198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76520" y="55198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55198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240" y="55198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51988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0320" y="512460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5640" y="512460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9520" y="512460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9800" y="512460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76520" y="512460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512460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5240" y="512460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12460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10320" y="472932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5640" y="472932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59520" y="472932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79800" y="472932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76520" y="472932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472932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240" y="472932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72932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10320" y="433404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35640" y="433404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59520" y="433404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79800" y="433404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76520" y="433404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433404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5240" y="433404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433404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10320" y="393876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5640" y="393876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59520" y="393876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79800" y="393876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76520" y="393876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93876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240" y="393876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93876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10320" y="35434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5640" y="35434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9520" y="35434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79800" y="35434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76520" y="35434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5434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5240" y="35434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354348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10320" y="2843280"/>
            <a:ext cx="1176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35640" y="2843280"/>
            <a:ext cx="1174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9520" y="2843280"/>
            <a:ext cx="1176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76520" y="2843280"/>
            <a:ext cx="503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2843280"/>
            <a:ext cx="2181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7080" y="2843280"/>
            <a:ext cx="729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7760" y="2843280"/>
            <a:ext cx="338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10320" y="244800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35640" y="244800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59520" y="244800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76520" y="244800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44800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44800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512460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65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798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595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3564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103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5434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12460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438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287640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35434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9243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9243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724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5245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590544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32432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876400"/>
            <a:ext cx="0" cy="3429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ENGELOMPOKAN AK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Akun-akun neraca atau disebut juga akun riil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,yaitu semua Akun yang terdapat di dalam neraca, seperti Akun aktiva, Akun hutang dan Akun modal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Akun-akun laba rugi atau disebut juga akun nominal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, yaitu semua Akun yang terdapat di dalam laporan rugi laba, yang mencakup Akun pendapatan dan Akun beban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505320" y="152280"/>
            <a:ext cx="1752480" cy="1067040"/>
          </a:xfrm>
          <a:prstGeom prst="rect">
            <a:avLst/>
          </a:prstGeom>
          <a:solidFill>
            <a:srgbClr val="cc66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uku Bes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685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685800"/>
            <a:ext cx="0" cy="838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85800"/>
            <a:ext cx="0" cy="838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638360"/>
            <a:ext cx="3124080" cy="838080"/>
          </a:xfrm>
          <a:prstGeom prst="rect">
            <a:avLst/>
          </a:prstGeom>
          <a:solidFill>
            <a:srgbClr val="cc0099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 Ril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85760" y="4419720"/>
            <a:ext cx="1447920" cy="838080"/>
          </a:xfrm>
          <a:prstGeom prst="rect">
            <a:avLst/>
          </a:prstGeom>
          <a:solidFill>
            <a:srgbClr val="33cc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uta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04840" y="3029040"/>
            <a:ext cx="1447920" cy="838080"/>
          </a:xfrm>
          <a:prstGeom prst="rect">
            <a:avLst/>
          </a:prstGeom>
          <a:solidFill>
            <a:srgbClr val="0066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tiv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10360" y="4419720"/>
            <a:ext cx="1790640" cy="838080"/>
          </a:xfrm>
          <a:prstGeom prst="rect">
            <a:avLst/>
          </a:prstGeom>
          <a:solidFill>
            <a:srgbClr val="33cc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eb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029040"/>
            <a:ext cx="1828800" cy="838080"/>
          </a:xfrm>
          <a:prstGeom prst="rect">
            <a:avLst/>
          </a:prstGeom>
          <a:solidFill>
            <a:srgbClr val="0066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endapat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5760" y="5848200"/>
            <a:ext cx="1447920" cy="838440"/>
          </a:xfrm>
          <a:prstGeom prst="rect">
            <a:avLst/>
          </a:prstGeom>
          <a:solidFill>
            <a:srgbClr val="cc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od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1638360"/>
            <a:ext cx="3124440" cy="838080"/>
          </a:xfrm>
          <a:prstGeom prst="rect">
            <a:avLst/>
          </a:prstGeom>
          <a:solidFill>
            <a:srgbClr val="cc0099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  Nomi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514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2514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905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09720" y="52578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392436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685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EDOMAN PENGISIAN AK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1981080"/>
            <a:ext cx="6400800" cy="3429000"/>
            <a:chOff x="1219320" y="1981080"/>
            <a:chExt cx="6400800" cy="3429000"/>
          </a:xfrm>
        </p:grpSpPr>
        <p:grpSp>
          <p:nvGrpSpPr>
            <p:cNvPr id="350" name=""/>
            <p:cNvGrpSpPr/>
            <p:nvPr/>
          </p:nvGrpSpPr>
          <p:grpSpPr>
            <a:xfrm>
              <a:off x="1219320" y="1981080"/>
              <a:ext cx="1676160" cy="1524240"/>
              <a:chOff x="1219320" y="1981080"/>
              <a:chExt cx="1676160" cy="15242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1219320" y="2362320"/>
                <a:ext cx="1676160" cy="1143000"/>
                <a:chOff x="1219320" y="2362320"/>
                <a:chExt cx="1676160" cy="1143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219320" y="236232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57400" y="236232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600200" y="23623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09680" y="27576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676520" y="19810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Aktiv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505320" y="1981080"/>
              <a:ext cx="1676520" cy="1523880"/>
              <a:chOff x="3505320" y="1981080"/>
              <a:chExt cx="1676520" cy="1523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886560" y="1981080"/>
                <a:ext cx="10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Hutang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505320" y="2361960"/>
                <a:ext cx="1676520" cy="1143000"/>
                <a:chOff x="3505320" y="2361960"/>
                <a:chExt cx="1676520" cy="11430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05320" y="2361960"/>
                  <a:ext cx="167652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343400" y="236196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438800" y="238104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886200" y="2819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5867640" y="2000160"/>
              <a:ext cx="1676160" cy="1504800"/>
              <a:chOff x="5867640" y="2000160"/>
              <a:chExt cx="1676160" cy="15048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867640" y="2361960"/>
                <a:ext cx="1676160" cy="1143000"/>
                <a:chOff x="5867640" y="2361960"/>
                <a:chExt cx="1676160" cy="1143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867640" y="236196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705360" y="236196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800760" y="238104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48160" y="28191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324840" y="200016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Modal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219320" y="3886200"/>
              <a:ext cx="1676520" cy="1523880"/>
              <a:chOff x="1219320" y="3886200"/>
              <a:chExt cx="1676520" cy="15238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219320" y="4267080"/>
                <a:ext cx="1676520" cy="1143000"/>
                <a:chOff x="1219320" y="4267080"/>
                <a:chExt cx="1676520" cy="11430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219320" y="4267080"/>
                  <a:ext cx="167652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057400" y="426708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152800" y="428616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600200" y="47242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1467000" y="388620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Penjuala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505320" y="3886200"/>
              <a:ext cx="1676160" cy="1523520"/>
              <a:chOff x="3505320" y="3886200"/>
              <a:chExt cx="1676160" cy="15235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3505320" y="4267080"/>
                <a:ext cx="1676160" cy="1142640"/>
                <a:chOff x="3505320" y="4267080"/>
                <a:chExt cx="1676160" cy="1142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50532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343400" y="4267080"/>
                  <a:ext cx="0" cy="114264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86200" y="426708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95680" y="46620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3924360" y="38862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Beba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791320" y="3886200"/>
              <a:ext cx="1828800" cy="1523880"/>
              <a:chOff x="5791320" y="3886200"/>
              <a:chExt cx="1828800" cy="152388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5829480" y="4267080"/>
                <a:ext cx="1676160" cy="1143000"/>
                <a:chOff x="5829480" y="4267080"/>
                <a:chExt cx="1676160" cy="1143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82948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67560" y="426708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210360" y="426708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19840" y="4662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791320" y="388620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Prive / Divede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BUKU BESAR (</a:t>
            </a:r>
            <a:r>
              <a:rPr b="0" i="1" lang="en-US" sz="2800" spc="-1" strike="noStrike">
                <a:solidFill>
                  <a:srgbClr val="ffffcc"/>
                </a:solidFill>
                <a:latin typeface="Arial Black"/>
              </a:rPr>
              <a:t>GENERAL LEDGER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781680" cy="3124440"/>
          </a:xfrm>
          <a:prstGeom prst="rect">
            <a:avLst/>
          </a:prstGeom>
          <a:solidFill>
            <a:srgbClr val="006666"/>
          </a:solidFill>
          <a:ln w="38160">
            <a:solidFill>
              <a:srgbClr val="0066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Buku Besa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adalah kumpulan dari semua Akun/perkiraan yang dimiliki suatu perusahaan yang saling berhubungan satu dengan lainnya dan merupakan suatu kesatuan.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6:32:25Z</dcterms:created>
  <dc:creator>Owner</dc:creator>
  <dc:description/>
  <dc:language>en-US</dc:language>
  <cp:lastModifiedBy>Owner</cp:lastModifiedBy>
  <dcterms:modified xsi:type="dcterms:W3CDTF">2009-04-22T05:44:09Z</dcterms:modified>
  <cp:revision>15</cp:revision>
  <dc:subject/>
  <dc:title>BAB 4</dc:title>
</cp:coreProperties>
</file>