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RILLON.WAV" ContentType="audio/x-wav"/>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2962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11B7-8710-4448-A113-0A9B2FDF244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A9DD-7B6F-43FB-914B-2CECDDE3316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990720" y="731880"/>
            <a:ext cx="4870440" cy="3654360"/>
          </a:xfrm>
          <a:prstGeom prst="rect">
            <a:avLst/>
          </a:prstGeom>
          <a:ln w="0">
            <a:noFill/>
          </a:ln>
        </p:spPr>
      </p:sp>
      <p:sp>
        <p:nvSpPr>
          <p:cNvPr id="75"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756C-E1BA-4FFF-9A14-B19CE5289E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990720" y="731880"/>
            <a:ext cx="4870440" cy="3654360"/>
          </a:xfrm>
          <a:prstGeom prst="rect">
            <a:avLst/>
          </a:prstGeom>
          <a:ln w="0">
            <a:noFill/>
          </a:ln>
        </p:spPr>
      </p:sp>
      <p:sp>
        <p:nvSpPr>
          <p:cNvPr id="78"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743E-F789-46C7-AA28-8A3FABA62DB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90720" y="731880"/>
            <a:ext cx="4870440" cy="3654360"/>
          </a:xfrm>
          <a:prstGeom prst="rect">
            <a:avLst/>
          </a:prstGeom>
          <a:ln w="0">
            <a:noFill/>
          </a:ln>
        </p:spPr>
      </p:sp>
      <p:sp>
        <p:nvSpPr>
          <p:cNvPr id="81" name="PlaceHolder 2"/>
          <p:cNvSpPr>
            <a:spLocks noGrp="1"/>
          </p:cNvSpPr>
          <p:nvPr>
            <p:ph type="body"/>
          </p:nvPr>
        </p:nvSpPr>
        <p:spPr>
          <a:xfrm>
            <a:off x="912600" y="46306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29E83-0F81-407F-9663-7A3C564F6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F77FB-3D12-48D4-9084-4E31D289B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7F1B2-686D-492D-AC2C-F907FE8BC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459B7-057E-45DD-8B7C-748A6F767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B1FC-94B1-4B18-8F71-DDA0DFE5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665C-4396-40F9-B629-FE201DE4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D630B-AE51-438C-AD05-01F15CD01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43DB-956F-4E37-8FF1-D8C0685C3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1F9C0-4FD9-4522-9A18-B34BD2996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0E41-AFB6-4935-86AF-06B2446E5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78D6-7F79-47B0-BCCD-322CC54D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80F4-E634-47EB-BD6E-55BAFD04A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E978-2E1C-42A6-B247-E827CC52D67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audio" Target="../media/CARILLON.WAV"/><Relationship Id="rId4" Type="http://schemas.openxmlformats.org/officeDocument/2006/relationships/audio" Target="../media/CARILLON.WAV"/><Relationship Id="rId5" Type="http://schemas.openxmlformats.org/officeDocument/2006/relationships/audio" Target="../media/CARILLON.WAV"/><Relationship Id="rId6" Type="http://schemas.openxmlformats.org/officeDocument/2006/relationships/audio" Target="../media/CARILLON.WAV"/><Relationship Id="rId7" Type="http://schemas.openxmlformats.org/officeDocument/2006/relationships/audio" Target="../media/CARILLON.WAV"/><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18900000"/>
        </a:gra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u="sng">
                <a:solidFill>
                  <a:srgbClr val="ff9900"/>
                </a:solidFill>
                <a:uFillTx/>
                <a:latin typeface="Castellar"/>
              </a:rPr>
              <a:t>Les potager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ccccff"/>
                </a:solidFill>
                <a:uFillTx/>
                <a:latin typeface="Times New Roman"/>
                <a:hlinkClick r:id="rId2" action="ppaction://hlinksldjump"/>
              </a:rPr>
              <a:t>Les caractéristiques.</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 ’histoire.</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iste des potagers connus.</a:t>
            </a:r>
            <a:endParaRPr b="0" lang="en-US" sz="3200" spc="-1" strike="noStrike">
              <a:solidFill>
                <a:srgbClr val="000000"/>
              </a:solidFill>
              <a:latin typeface="Times New Roman"/>
            </a:endParaRPr>
          </a:p>
          <a:p>
            <a:pPr marL="343080" indent="-343080">
              <a:lnSpc>
                <a:spcPct val="190000"/>
              </a:lnSpc>
              <a:spcBef>
                <a:spcPts val="799"/>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99ff"/>
                </a:solidFill>
                <a:latin typeface="Times New Roman"/>
              </a:rPr>
              <a:t>Le Potager du roi.</a:t>
            </a:r>
            <a:endParaRPr b="0" lang="en-US" sz="3200" spc="-1" strike="noStrike">
              <a:solidFill>
                <a:srgbClr val="000000"/>
              </a:solidFill>
              <a:latin typeface="Times New Roman"/>
            </a:endParaRPr>
          </a:p>
        </p:txBody>
      </p:sp>
      <p:sp>
        <p:nvSpPr>
          <p:cNvPr id="51" name="AutoShape 6"/>
          <p:cNvSpPr/>
          <p:nvPr/>
        </p:nvSpPr>
        <p:spPr>
          <a:xfrm>
            <a:off x="7315200" y="586728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mmair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3" name="CARILLON.WAV"/>
                                        </p:tgtEl>
                                      </p:cMediaNode>
                                    </p:audio>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audio isNarration="0">
                                      <p:cMediaNode showWhenStopped="1">
                                        <p:cTn/>
                                        <p:tgtEl>
                                          <p:sndTgt r:embed="rId4" name="CARILLON.WAV"/>
                                        </p:tgtEl>
                                      </p:cMediaNode>
                                    </p:audio>
                                    <p:set>
                                      <p:cBhvr>
                                        <p:cTn id="12" dur="1" fill="hold">
                                          <p:stCondLst>
                                            <p:cond delay="0"/>
                                          </p:stCondLst>
                                        </p:cTn>
                                        <p:tgtEl>
                                          <p:spTgt spid="50">
                                            <p:txEl>
                                              <p:pRg st="0" end="0"/>
                                            </p:txEl>
                                          </p:spTgt>
                                        </p:tgtEl>
                                        <p:attrNameLst>
                                          <p:attrName>style.visibility</p:attrName>
                                        </p:attrNameLst>
                                      </p:cBhvr>
                                      <p:to>
                                        <p:strVal val="visible"/>
                                      </p:to>
                                    </p:set>
                                    <p:animEffect filter="wipe(down)" transition="in">
                                      <p:cBhvr additive="repl">
                                        <p:cTn id="13" dur="500"/>
                                        <p:tgtEl>
                                          <p:spTgt spid="50">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audio isNarration="0">
                                      <p:cMediaNode showWhenStopped="1">
                                        <p:cTn/>
                                        <p:tgtEl>
                                          <p:sndTgt r:embed="rId5" name="CARILLON.WAV"/>
                                        </p:tgtEl>
                                      </p:cMediaNode>
                                    </p:audio>
                                    <p:set>
                                      <p:cBhvr>
                                        <p:cTn id="17"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18" dur="500"/>
                                        <p:tgtEl>
                                          <p:spTgt spid="50">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audio isNarration="0">
                                      <p:cMediaNode showWhenStopped="1">
                                        <p:cTn/>
                                        <p:tgtEl>
                                          <p:sndTgt r:embed="rId6" name="CARILLON.WAV"/>
                                        </p:tgtEl>
                                      </p:cMediaNode>
                                    </p:audio>
                                    <p:set>
                                      <p:cBhvr>
                                        <p:cTn id="22" dur="1" fill="hold">
                                          <p:stCondLst>
                                            <p:cond delay="0"/>
                                          </p:stCondLst>
                                        </p:cTn>
                                        <p:tgtEl>
                                          <p:spTgt spid="50">
                                            <p:txEl>
                                              <p:pRg st="3" end="3"/>
                                            </p:txEl>
                                          </p:spTgt>
                                        </p:tgtEl>
                                        <p:attrNameLst>
                                          <p:attrName>style.visibility</p:attrName>
                                        </p:attrNameLst>
                                      </p:cBhvr>
                                      <p:to>
                                        <p:strVal val="visible"/>
                                      </p:to>
                                    </p:set>
                                    <p:animEffect filter="wipe(down)" transition="in">
                                      <p:cBhvr additive="repl">
                                        <p:cTn id="23" dur="500"/>
                                        <p:tgtEl>
                                          <p:spTgt spid="50">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audio isNarration="0">
                                      <p:cMediaNode showWhenStopped="1">
                                        <p:cTn/>
                                        <p:tgtEl>
                                          <p:sndTgt r:embed="rId7" name="CARILLON.WAV"/>
                                        </p:tgtEl>
                                      </p:cMediaNode>
                                    </p:audio>
                                    <p:set>
                                      <p:cBhvr>
                                        <p:cTn id="27" dur="1" fill="hold">
                                          <p:stCondLst>
                                            <p:cond delay="0"/>
                                          </p:stCondLst>
                                        </p:cTn>
                                        <p:tgtEl>
                                          <p:spTgt spid="50"/>
                                        </p:tgtEl>
                                        <p:attrNameLst>
                                          <p:attrName>style.visibility</p:attrName>
                                        </p:attrNameLst>
                                      </p:cBhvr>
                                      <p:to>
                                        <p:strVal val="visible"/>
                                      </p:to>
                                    </p:set>
                                    <p:animEffect filter="wipe(down)" transition="in">
                                      <p:cBhvr additive="repl">
                                        <p:cTn id="28"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2" descr=""/>
          <p:cNvPicPr/>
          <p:nvPr/>
        </p:nvPicPr>
        <p:blipFill>
          <a:blip r:embed="rId2"/>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c66ff"/>
                </a:solidFill>
                <a:latin typeface="Snap ITC"/>
              </a:rPr>
              <a:t>Les caractéristiques</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3300"/>
                </a:solidFill>
                <a:latin typeface="Times New Roman"/>
              </a:rPr>
              <a:t>	</a:t>
            </a:r>
            <a:r>
              <a:rPr b="1" lang="fr-FR" sz="2000" spc="-1" strike="noStrike">
                <a:solidFill>
                  <a:srgbClr val="ff3300"/>
                </a:solidFill>
                <a:latin typeface="Times New Roman"/>
              </a:rPr>
              <a:t>Le jardin naturel, c'est tout d'abord appliquer la rotation des cultures au potager, mais c'est aussi respecter les principes de base du jardinage naturel. </a:t>
            </a:r>
            <a:br>
              <a:rPr sz="2000"/>
            </a:br>
            <a:r>
              <a:rPr b="1" lang="fr-FR" sz="2000" spc="-1" strike="noStrike">
                <a:solidFill>
                  <a:srgbClr val="ff3300"/>
                </a:solidFill>
                <a:latin typeface="Times New Roman"/>
              </a:rPr>
              <a:t>58 légumes du potager sont présentés sur ces pages avec leurs associations favorables au potager. Les fleurs sauvages sont présentées également avec leurs caractéristiques. </a:t>
            </a:r>
            <a:br>
              <a:rPr sz="2000"/>
            </a:br>
            <a:r>
              <a:rPr b="1" lang="fr-FR" sz="2000" spc="-1" strike="noStrike">
                <a:solidFill>
                  <a:srgbClr val="ff3300"/>
                </a:solidFill>
                <a:latin typeface="Times New Roman"/>
              </a:rPr>
              <a:t>Enfin, je vous invite à visiter les pages détaillées sur la pomme de terre, la tomate, le piment, le fraisier,le dahl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AutoShape 5"/>
          <p:cNvSpPr/>
          <p:nvPr/>
        </p:nvSpPr>
        <p:spPr>
          <a:xfrm>
            <a:off x="73915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66ff"/>
                </a:solidFill>
                <a:latin typeface="Snap ITC"/>
              </a:rPr>
              <a:t>L ’histoi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990720"/>
            <a:ext cx="7772400" cy="4114800"/>
          </a:xfrm>
          <a:prstGeom prst="rect">
            <a:avLst/>
          </a:prstGeom>
          <a:noFill/>
          <a:ln w="0">
            <a:noFill/>
          </a:ln>
        </p:spPr>
        <p:txBody>
          <a:bodyPr anchor="t">
            <a:normAutofit fontScale="89000"/>
          </a:bodyPr>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a Cour devient de plus en plus importante, il faut agrandir le Potager, et l'on doit choisir un nouvel emplacement. La Quintinie eût préféré un terrain près de Clagny, mais on pense avant tout à contribuer aux splendeurs des abords du château, et le Potager est établi près de la Pièce d'eau des Suisses, "dans une situation commode pour les promenades et la satisfaction du Roi". Les travaux s'échelonnent entre 1678 et 1683 et leur coût atteint une somme considérable. </a:t>
            </a:r>
            <a:endParaRPr b="0" lang="en-US" sz="16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 plan du Potager du Roi actuel a peu changé par rapport à celui de La Quintinie. Il occupe vingt-cinq arpents, soit un peu plus de neuf hectares. Le grand carré est composé de seize "carrés" de légumes disposés autour d'un grand bassin, et entourés d'arbres en buissons. Une terrasse domine l'ensemble, offrant au roi et à ses visiteurs une vision théâtrale des cultures de fruits et de légumes et des jardiniers. Tout autour du grand carré, derrière de hauts murs, vingt-neuf jardins clos abritent les arbres fruitiers, en forme libre ou conduits en espaliers, les légumes et les petits fruits.</a:t>
            </a:r>
            <a:endParaRPr b="0" lang="en-US" sz="1600" spc="-1" strike="noStrike">
              <a:solidFill>
                <a:srgbClr val="000000"/>
              </a:solidFill>
              <a:latin typeface="Times New Roman"/>
            </a:endParaRPr>
          </a:p>
          <a:p>
            <a:pPr marL="305280" indent="-3052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L'ensemble de ces jardins forme une succession de jardins en creux, véritables " chambres " abritées dont les murs et terrasses permettent de multiplier  et les microclimats et ainsi d'étaler les productions. En effet, à partir de 1683, La Quintinie va faire du Potager de Versailles un jardin réputé, et satisfaire l'amour du Roi pour les fruits et les légumes. Il lui offre des occasions toujours renouvelées d'émerveillement, grâce à sa maîtrise des techniques de culture, qui lui permettent de développer la production à contre-saison : .</a:t>
            </a:r>
            <a:endParaRPr b="0" lang="en-US" sz="1600" spc="-1" strike="noStrike">
              <a:solidFill>
                <a:srgbClr val="000000"/>
              </a:solidFill>
              <a:latin typeface="Times New Roman"/>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AutoShape 5"/>
          <p:cNvSpPr/>
          <p:nvPr/>
        </p:nvSpPr>
        <p:spPr>
          <a:xfrm>
            <a:off x="4038480" y="6172200"/>
            <a:ext cx="1067040" cy="685800"/>
          </a:xfrm>
          <a:custGeom>
            <a:avLst/>
            <a:gdLst>
              <a:gd name="textAreaLeft" fmla="*/ 44280 w 1067040"/>
              <a:gd name="textAreaRight" fmla="*/ 1022760 w 1067040"/>
              <a:gd name="textAreaTop" fmla="*/ 44280 h 685800"/>
              <a:gd name="textAreaBottom" fmla="*/ 641520 h 685800"/>
            </a:gdLst>
            <a:ahLst/>
            <a:rect l="textAreaLeft" t="textAreaTop" r="textAreaRight" b="textAreaBottom"/>
            <a:pathLst>
              <a:path w="33601" h="21600">
                <a:moveTo>
                  <a:pt x="0" y="0"/>
                </a:moveTo>
                <a:lnTo>
                  <a:pt x="33601" y="0"/>
                </a:lnTo>
                <a:lnTo>
                  <a:pt x="33601" y="21600"/>
                </a:lnTo>
                <a:lnTo>
                  <a:pt x="0" y="21600"/>
                </a:lnTo>
                <a:close/>
              </a:path>
              <a:path fill="lightenLess" w="33601" h="21600">
                <a:moveTo>
                  <a:pt x="0" y="0"/>
                </a:moveTo>
                <a:lnTo>
                  <a:pt x="33601" y="0"/>
                </a:lnTo>
                <a:lnTo>
                  <a:pt x="32201" y="1400"/>
                </a:lnTo>
                <a:lnTo>
                  <a:pt x="1400" y="1400"/>
                </a:lnTo>
                <a:close/>
              </a:path>
              <a:path fill="darken" w="33601" h="21600">
                <a:moveTo>
                  <a:pt x="33601" y="0"/>
                </a:moveTo>
                <a:lnTo>
                  <a:pt x="33601" y="21600"/>
                </a:lnTo>
                <a:lnTo>
                  <a:pt x="32201" y="20200"/>
                </a:lnTo>
                <a:lnTo>
                  <a:pt x="32201" y="1400"/>
                </a:lnTo>
                <a:close/>
              </a:path>
              <a:path fill="darkenLess" w="33601" h="21600">
                <a:moveTo>
                  <a:pt x="33601" y="21600"/>
                </a:moveTo>
                <a:lnTo>
                  <a:pt x="0" y="21600"/>
                </a:lnTo>
                <a:lnTo>
                  <a:pt x="1400" y="20200"/>
                </a:lnTo>
                <a:lnTo>
                  <a:pt x="32201" y="20200"/>
                </a:lnTo>
                <a:close/>
              </a:path>
              <a:path fill="lighten" w="33601" h="21600">
                <a:moveTo>
                  <a:pt x="0" y="21600"/>
                </a:moveTo>
                <a:lnTo>
                  <a:pt x="0" y="0"/>
                </a:lnTo>
                <a:lnTo>
                  <a:pt x="1400" y="1400"/>
                </a:lnTo>
                <a:lnTo>
                  <a:pt x="1400" y="20200"/>
                </a:lnTo>
                <a:close/>
              </a:path>
              <a:path fill="darken" w="33601" h="21600">
                <a:moveTo>
                  <a:pt x="16801" y="3837"/>
                </a:moveTo>
                <a:lnTo>
                  <a:pt x="19377" y="6448"/>
                </a:lnTo>
                <a:lnTo>
                  <a:pt x="19377" y="4707"/>
                </a:lnTo>
                <a:lnTo>
                  <a:pt x="21152" y="4707"/>
                </a:lnTo>
                <a:lnTo>
                  <a:pt x="21152" y="8224"/>
                </a:lnTo>
                <a:lnTo>
                  <a:pt x="23764" y="10800"/>
                </a:lnTo>
                <a:lnTo>
                  <a:pt x="22110" y="10800"/>
                </a:lnTo>
                <a:lnTo>
                  <a:pt x="22110" y="17989"/>
                </a:lnTo>
                <a:lnTo>
                  <a:pt x="11491" y="17989"/>
                </a:lnTo>
                <a:lnTo>
                  <a:pt x="11491" y="10800"/>
                </a:lnTo>
                <a:lnTo>
                  <a:pt x="9838" y="10800"/>
                </a:lnTo>
                <a:close/>
              </a:path>
              <a:path fill="darkenLess" w="33601" h="21600">
                <a:moveTo>
                  <a:pt x="19377" y="6448"/>
                </a:moveTo>
                <a:lnTo>
                  <a:pt x="19377" y="4707"/>
                </a:lnTo>
                <a:lnTo>
                  <a:pt x="21152" y="4707"/>
                </a:lnTo>
                <a:lnTo>
                  <a:pt x="21152" y="8224"/>
                </a:lnTo>
                <a:close/>
              </a:path>
              <a:path fill="darkenLess" w="33601" h="21600">
                <a:moveTo>
                  <a:pt x="15878" y="14299"/>
                </a:moveTo>
                <a:lnTo>
                  <a:pt x="17723" y="14299"/>
                </a:lnTo>
                <a:lnTo>
                  <a:pt x="17723" y="17989"/>
                </a:lnTo>
                <a:lnTo>
                  <a:pt x="22110" y="17989"/>
                </a:lnTo>
                <a:lnTo>
                  <a:pt x="22110" y="10800"/>
                </a:lnTo>
                <a:lnTo>
                  <a:pt x="11491" y="10800"/>
                </a:lnTo>
                <a:lnTo>
                  <a:pt x="11491" y="17989"/>
                </a:lnTo>
                <a:lnTo>
                  <a:pt x="15878" y="17989"/>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23760"/>
            <a:ext cx="9144000" cy="688176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99ff"/>
                </a:solidFill>
                <a:latin typeface="Snap ITC"/>
              </a:rPr>
              <a:t>Liste des potagers connu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24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Marcoussis.</a:t>
            </a:r>
            <a:r>
              <a:rPr b="1" lang="fr-FR" sz="3200" spc="-1" strike="noStrike">
                <a:solidFill>
                  <a:srgbClr val="66ccff"/>
                </a:solidFill>
                <a:latin typeface="Times New Roman"/>
              </a:rPr>
              <a:t> </a:t>
            </a:r>
            <a:r>
              <a:rPr b="1" lang="fr-FR" sz="1600" spc="-1" strike="noStrike">
                <a:solidFill>
                  <a:srgbClr val="66ccff"/>
                </a:solidFill>
                <a:latin typeface="Times New Roman"/>
              </a:rPr>
              <a:t>http://www.chez.com/potagers/</a:t>
            </a:r>
            <a:endParaRPr b="0" lang="en-US" sz="1600" spc="-1" strike="noStrike">
              <a:solidFill>
                <a:srgbClr val="000000"/>
              </a:solidFill>
              <a:latin typeface="Times New Roman"/>
            </a:endParaRPr>
          </a:p>
          <a:p>
            <a:pPr marL="332640" indent="-332640">
              <a:lnSpc>
                <a:spcPct val="18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Bruxelles.</a:t>
            </a:r>
            <a:r>
              <a:rPr b="1" lang="fr-FR" sz="3200" spc="-1" strike="noStrike">
                <a:solidFill>
                  <a:srgbClr val="66ccff"/>
                </a:solidFill>
                <a:latin typeface="Times New Roman"/>
              </a:rPr>
              <a:t> </a:t>
            </a:r>
            <a:r>
              <a:rPr b="1" lang="fr-FR" sz="1600" spc="-1" strike="noStrike">
                <a:solidFill>
                  <a:srgbClr val="66ccff"/>
                </a:solidFill>
                <a:latin typeface="Times New Roman"/>
              </a:rPr>
              <a:t>http://www.chateau-demontriou.com/parc</a:t>
            </a:r>
            <a:endParaRPr b="0" lang="en-US" sz="1600" spc="-1" strike="noStrike">
              <a:solidFill>
                <a:srgbClr val="000000"/>
              </a:solidFill>
              <a:latin typeface="Times New Roman"/>
            </a:endParaRPr>
          </a:p>
          <a:p>
            <a:pPr marL="332640" indent="-332640">
              <a:lnSpc>
                <a:spcPct val="200000"/>
              </a:lnSpc>
              <a:spcBef>
                <a:spcPts val="400"/>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00cc"/>
                </a:solidFill>
                <a:latin typeface="Times New Roman"/>
              </a:rPr>
              <a:t>Potager de Courges.</a:t>
            </a:r>
            <a:r>
              <a:rPr b="1" lang="fr-FR" sz="3200" spc="-1" strike="noStrike">
                <a:solidFill>
                  <a:srgbClr val="66ccff"/>
                </a:solidFill>
                <a:latin typeface="Times New Roman"/>
              </a:rPr>
              <a:t> </a:t>
            </a:r>
            <a:r>
              <a:rPr b="1" lang="fr-FR" sz="1600" spc="-1" strike="noStrike">
                <a:solidFill>
                  <a:srgbClr val="66ccff"/>
                </a:solidFill>
                <a:latin typeface="Times New Roman"/>
              </a:rPr>
              <a:t>http://www.ibgebim.be/EVENTS/FR/Presse/085.2003%20CP%20Potagers%2004-04%20FR.pdf</a:t>
            </a:r>
            <a:endParaRPr b="0" lang="en-US" sz="1600" spc="-1" strike="noStrike">
              <a:solidFill>
                <a:srgbClr val="000000"/>
              </a:solidFill>
              <a:latin typeface="Times New Roman"/>
            </a:endParaRPr>
          </a:p>
        </p:txBody>
      </p:sp>
      <p:sp>
        <p:nvSpPr>
          <p:cNvPr id="63" name="AutoShape 5"/>
          <p:cNvSpPr/>
          <p:nvPr/>
        </p:nvSpPr>
        <p:spPr>
          <a:xfrm>
            <a:off x="4038480" y="6095880"/>
            <a:ext cx="1524240" cy="762120"/>
          </a:xfrm>
          <a:custGeom>
            <a:avLst/>
            <a:gdLst>
              <a:gd name="textAreaLeft" fmla="*/ 49320 w 1524240"/>
              <a:gd name="textAreaRight" fmla="*/ 1474920 w 1524240"/>
              <a:gd name="textAreaTop" fmla="*/ 49320 h 762120"/>
              <a:gd name="textAreaBottom" fmla="*/ 712800 h 762120"/>
            </a:gdLst>
            <a:ahLst/>
            <a:rect l="textAreaLeft" t="textAreaTop" r="textAreaRight" b="textAreaBottom"/>
            <a:pathLst>
              <a:path w="43190" h="21600">
                <a:moveTo>
                  <a:pt x="0" y="0"/>
                </a:moveTo>
                <a:lnTo>
                  <a:pt x="43190" y="0"/>
                </a:lnTo>
                <a:lnTo>
                  <a:pt x="43190" y="21600"/>
                </a:lnTo>
                <a:lnTo>
                  <a:pt x="0" y="21600"/>
                </a:lnTo>
                <a:close/>
              </a:path>
              <a:path fill="lightenLess" w="43190" h="21600">
                <a:moveTo>
                  <a:pt x="0" y="0"/>
                </a:moveTo>
                <a:lnTo>
                  <a:pt x="43190" y="0"/>
                </a:lnTo>
                <a:lnTo>
                  <a:pt x="41790" y="1400"/>
                </a:lnTo>
                <a:lnTo>
                  <a:pt x="1400" y="1400"/>
                </a:lnTo>
                <a:close/>
              </a:path>
              <a:path fill="darken" w="43190" h="21600">
                <a:moveTo>
                  <a:pt x="43190" y="0"/>
                </a:moveTo>
                <a:lnTo>
                  <a:pt x="43190" y="21600"/>
                </a:lnTo>
                <a:lnTo>
                  <a:pt x="41790" y="20200"/>
                </a:lnTo>
                <a:lnTo>
                  <a:pt x="41790" y="1400"/>
                </a:lnTo>
                <a:close/>
              </a:path>
              <a:path fill="darkenLess" w="43190" h="21600">
                <a:moveTo>
                  <a:pt x="43190" y="21600"/>
                </a:moveTo>
                <a:lnTo>
                  <a:pt x="0" y="21600"/>
                </a:lnTo>
                <a:lnTo>
                  <a:pt x="1400" y="20200"/>
                </a:lnTo>
                <a:lnTo>
                  <a:pt x="41790" y="20200"/>
                </a:lnTo>
                <a:close/>
              </a:path>
              <a:path fill="lighten" w="43190" h="21600">
                <a:moveTo>
                  <a:pt x="0" y="21600"/>
                </a:moveTo>
                <a:lnTo>
                  <a:pt x="0" y="0"/>
                </a:lnTo>
                <a:lnTo>
                  <a:pt x="1400" y="1400"/>
                </a:lnTo>
                <a:lnTo>
                  <a:pt x="1400" y="20200"/>
                </a:lnTo>
                <a:close/>
              </a:path>
              <a:path fill="darken" w="43190" h="21600">
                <a:moveTo>
                  <a:pt x="21595" y="3837"/>
                </a:moveTo>
                <a:lnTo>
                  <a:pt x="24171" y="6448"/>
                </a:lnTo>
                <a:lnTo>
                  <a:pt x="24171" y="4707"/>
                </a:lnTo>
                <a:lnTo>
                  <a:pt x="25947" y="4707"/>
                </a:lnTo>
                <a:lnTo>
                  <a:pt x="25947" y="8224"/>
                </a:lnTo>
                <a:lnTo>
                  <a:pt x="28558" y="10800"/>
                </a:lnTo>
                <a:lnTo>
                  <a:pt x="26904" y="10800"/>
                </a:lnTo>
                <a:lnTo>
                  <a:pt x="26904" y="17989"/>
                </a:lnTo>
                <a:lnTo>
                  <a:pt x="16286" y="17989"/>
                </a:lnTo>
                <a:lnTo>
                  <a:pt x="16286" y="10800"/>
                </a:lnTo>
                <a:lnTo>
                  <a:pt x="14632" y="10800"/>
                </a:lnTo>
                <a:close/>
              </a:path>
              <a:path fill="darkenLess" w="43190" h="21600">
                <a:moveTo>
                  <a:pt x="24171" y="6448"/>
                </a:moveTo>
                <a:lnTo>
                  <a:pt x="24171" y="4707"/>
                </a:lnTo>
                <a:lnTo>
                  <a:pt x="25947" y="4707"/>
                </a:lnTo>
                <a:lnTo>
                  <a:pt x="25947" y="8224"/>
                </a:lnTo>
                <a:close/>
              </a:path>
              <a:path fill="darkenLess" w="43190" h="21600">
                <a:moveTo>
                  <a:pt x="20672" y="14299"/>
                </a:moveTo>
                <a:lnTo>
                  <a:pt x="22517" y="14299"/>
                </a:lnTo>
                <a:lnTo>
                  <a:pt x="22517" y="17989"/>
                </a:lnTo>
                <a:lnTo>
                  <a:pt x="26904" y="17989"/>
                </a:lnTo>
                <a:lnTo>
                  <a:pt x="26904" y="10800"/>
                </a:lnTo>
                <a:lnTo>
                  <a:pt x="16286" y="10800"/>
                </a:lnTo>
                <a:lnTo>
                  <a:pt x="16286" y="17989"/>
                </a:lnTo>
                <a:lnTo>
                  <a:pt x="20672"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99ff"/>
                </a:solidFill>
                <a:latin typeface="Snap ITC"/>
              </a:rPr>
              <a:t>Le Potager du Ro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anchor="t">
            <a:normAutofit fontScale="92000"/>
          </a:bodyPr>
          <a:p>
            <a:pPr marL="315360" indent="0" algn="ctr">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Dans son Instruction pour les jardins fruitiers et potagers (1690), Jean-Baptiste de La Quintinie établit une liste “de tout ce qui doit être dans un potager raisonnablement grand pour le rendre parfaitement bien garni”. C’est ce document qui a permis de retrouver une quarantaine d’herbes, aromatiques et médicinales, présentées dans ces parcelles.</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Si certaines sont bien connues, d’autres ont sombré dans l’oubli (maceron, rocambole, cerfeuil musqué...).</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Ce jardin est l’occasion de réapprendre quelles étaient les façons culturales et quels usages on faisait de ces plantes au temps du Roi Soleil. </a:t>
            </a:r>
            <a:endParaRPr b="0" lang="en-US" sz="2000" spc="-1" strike="noStrike">
              <a:solidFill>
                <a:srgbClr val="000000"/>
              </a:solidFill>
              <a:latin typeface="Times New Roman"/>
            </a:endParaRPr>
          </a:p>
          <a:p>
            <a:pPr marL="315360" indent="-315360">
              <a:lnSpc>
                <a:spcPct val="90000"/>
              </a:lnSpc>
              <a:spcBef>
                <a:spcPts val="499"/>
              </a:spcBef>
              <a:spcAft>
                <a:spcPts val="499"/>
              </a:spcAft>
              <a:buClr>
                <a:srgbClr val="2a1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1498"/>
                </a:solidFill>
                <a:latin typeface="Arial"/>
              </a:rPr>
              <a:t>Il nous permet de retrouver la grande diversité de leurs formes et de leurs goûts.</a:t>
            </a:r>
            <a:endParaRPr b="0" lang="en-US" sz="2000" spc="-1" strike="noStrike">
              <a:solidFill>
                <a:srgbClr val="000000"/>
              </a:solidFill>
              <a:latin typeface="Times New Roman"/>
            </a:endParaRPr>
          </a:p>
          <a:p>
            <a:pPr marL="315360" indent="-315360">
              <a:lnSpc>
                <a:spcPct val="90000"/>
              </a:lnSpc>
              <a:spcBef>
                <a:spcPts val="499"/>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cc"/>
                </a:solidFill>
                <a:latin typeface="Times New Roman"/>
              </a:rPr>
              <a:t>http://www.potager-du-roi.fr/</a:t>
            </a:r>
            <a:endParaRPr b="0" lang="en-US" sz="2000" spc="-1" strike="noStrike">
              <a:solidFill>
                <a:srgbClr val="000000"/>
              </a:solidFill>
              <a:latin typeface="Times New Roman"/>
            </a:endParaRPr>
          </a:p>
        </p:txBody>
      </p:sp>
      <p:sp>
        <p:nvSpPr>
          <p:cNvPr id="67" name="AutoShape 5">
            <a:hlinkClick r:id="" action="ppaction://hlinkshowjump?jump=firstslide"/>
          </p:cNvPr>
          <p:cNvSpPr/>
          <p:nvPr/>
        </p:nvSpPr>
        <p:spPr>
          <a:xfrm>
            <a:off x="7162920" y="609588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21590" y="3837"/>
                </a:moveTo>
                <a:lnTo>
                  <a:pt x="24166" y="6448"/>
                </a:lnTo>
                <a:lnTo>
                  <a:pt x="24166" y="4707"/>
                </a:lnTo>
                <a:lnTo>
                  <a:pt x="25942" y="4707"/>
                </a:lnTo>
                <a:lnTo>
                  <a:pt x="25942" y="8224"/>
                </a:lnTo>
                <a:lnTo>
                  <a:pt x="28553" y="10800"/>
                </a:lnTo>
                <a:lnTo>
                  <a:pt x="26899" y="10800"/>
                </a:lnTo>
                <a:lnTo>
                  <a:pt x="26899" y="17989"/>
                </a:lnTo>
                <a:lnTo>
                  <a:pt x="16281" y="17989"/>
                </a:lnTo>
                <a:lnTo>
                  <a:pt x="16281" y="10800"/>
                </a:lnTo>
                <a:lnTo>
                  <a:pt x="14627" y="10800"/>
                </a:lnTo>
                <a:close/>
              </a:path>
              <a:path fill="darkenLess" w="43180" h="21600">
                <a:moveTo>
                  <a:pt x="24166" y="6448"/>
                </a:moveTo>
                <a:lnTo>
                  <a:pt x="24166" y="4707"/>
                </a:lnTo>
                <a:lnTo>
                  <a:pt x="25942" y="4707"/>
                </a:lnTo>
                <a:lnTo>
                  <a:pt x="25942" y="8224"/>
                </a:lnTo>
                <a:close/>
              </a:path>
              <a:path fill="darkenLess" w="43180" h="21600">
                <a:moveTo>
                  <a:pt x="20667" y="14299"/>
                </a:moveTo>
                <a:lnTo>
                  <a:pt x="22512" y="14299"/>
                </a:lnTo>
                <a:lnTo>
                  <a:pt x="22512" y="17989"/>
                </a:lnTo>
                <a:lnTo>
                  <a:pt x="26899" y="17989"/>
                </a:lnTo>
                <a:lnTo>
                  <a:pt x="26899" y="10800"/>
                </a:lnTo>
                <a:lnTo>
                  <a:pt x="16281" y="10800"/>
                </a:lnTo>
                <a:lnTo>
                  <a:pt x="16281" y="17989"/>
                </a:lnTo>
                <a:lnTo>
                  <a:pt x="20667" y="17989"/>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ff00"/>
                </a:solidFill>
                <a:latin typeface="Curlz MT"/>
              </a:rPr>
              <a:t>Jardin potagerJardin potage</a:t>
            </a:r>
            <a:endParaRPr b="0" lang="en-US" sz="3200" spc="-1" strike="noStrike">
              <a:solidFill>
                <a:srgbClr val="000000"/>
              </a:solidFill>
              <a:latin typeface="Times New Roman"/>
            </a:endParaRPr>
          </a:p>
        </p:txBody>
      </p:sp>
      <p:pic>
        <p:nvPicPr>
          <p:cNvPr id="69" name="Picture 2" descr="F:\بحوث سنة 4\mohamed\bmlbml7.jpg"/>
          <p:cNvPicPr/>
          <p:nvPr/>
        </p:nvPicPr>
        <p:blipFill>
          <a:blip r:embed="rId1"/>
          <a:stretch/>
        </p:blipFill>
        <p:spPr>
          <a:xfrm>
            <a:off x="0" y="0"/>
            <a:ext cx="7000920" cy="6858000"/>
          </a:xfrm>
          <a:prstGeom prst="rect">
            <a:avLst/>
          </a:prstGeom>
          <a:ln w="0">
            <a:noFill/>
          </a:ln>
        </p:spPr>
      </p:pic>
      <p:sp>
        <p:nvSpPr>
          <p:cNvPr id="70" name="Rectangle 4"/>
          <p:cNvSpPr/>
          <p:nvPr/>
        </p:nvSpPr>
        <p:spPr>
          <a:xfrm>
            <a:off x="7000920" y="2643120"/>
            <a:ext cx="2143080" cy="430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Curlz MT"/>
              </a:rPr>
              <a:t>D'autres, enfin, reçoivent la semence dans de la bonne terre : ils entendent la parole et la comprennent ; ils portent alors des fruits, les uns cent, d'autres soixante et </a:t>
            </a:r>
            <a:r>
              <a:rPr b="0" lang="fr-FR" sz="2000" spc="-1" strike="noStrike">
                <a:solidFill>
                  <a:srgbClr val="00ff00"/>
                </a:solidFill>
                <a:latin typeface="Curlz MT"/>
              </a:rPr>
              <a:t>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بحوث سنة 4\mohamed\bmlbml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F:\بحوث سنة 4\mohamed\bmlbml1.jpg"/>
          <p:cNvPicPr/>
          <p:nvPr/>
        </p:nvPicPr>
        <p:blipFill>
          <a:blip r:embed="rId1"/>
          <a:stretch/>
        </p:blipFill>
        <p:spPr>
          <a:xfrm>
            <a:off x="60480" y="28440"/>
            <a:ext cx="9083520" cy="682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8:00:51Z</dcterms:created>
  <dc:creator>INSTITUT ALMA</dc:creator>
  <dc:description/>
  <dc:language>en-US</dc:language>
  <cp:lastModifiedBy>nawal</cp:lastModifiedBy>
  <cp:lastPrinted>2003-05-07T07:20:48Z</cp:lastPrinted>
  <dcterms:modified xsi:type="dcterms:W3CDTF">2010-12-11T13:13:33Z</dcterms:modified>
  <cp:revision>102</cp:revision>
  <dc:subject/>
  <dc:title>Aucun titre de diapositive</dc:title>
</cp:coreProperties>
</file>