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B5DD-5788-4DFF-8EAB-B67A06D1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0FD8-726E-4EC2-BE5D-F4632593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A98A-348D-46BE-9122-90FC7E32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EA10-9F87-4D5A-8515-3DD602F7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7E0-5C28-45DD-B901-7A3CF991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9E57-3D14-4DB1-AFEF-A65D3A3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7E14-1682-4643-B26F-D67287C0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B2D2-6203-471D-9DC9-7D450F4C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BD1-B718-4EEE-8165-042ECC3D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67C8-E30A-4E32-9AEC-D30D70A0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16F-1CB9-4716-8F12-87B23BA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BF1A-09E1-4905-87CF-CBE5019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082E-40EB-423E-B821-D542CF7E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471-5D66-4281-855D-81402E7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E48-6ED8-449D-9DE0-5D43EFE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9E75-EEEE-4172-9014-C49FFAC0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27FA-0944-406B-A257-E606469C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FD84-299D-46C8-9401-FD328D4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9661-7F80-4B23-9BBE-A521679D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CE26-33F3-4104-ABF0-D7AA4F0B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E540-EBE8-4C0A-90EC-FD1ECD4A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6CF3-736C-4A0E-8CCC-7A5438E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90F3-BF9C-403E-927A-F3CE8F7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DC70-913C-45CD-BB26-3CF7CFF9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5EDD-1882-4A09-ADA8-142BFF8AC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B5DA-ADFE-40A0-B3FA-227FF3A3A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ors for Video/Audio/Compu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LR Audio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audio such as mics, speakers to pro audio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pins are ground, hot and cold to create balanced aud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53000" y="2803680"/>
            <a:ext cx="40338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GA/SVGA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computer video monitors to computer or A/V equip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125800"/>
            <a:ext cx="4033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VI Connec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LCD video monitors or projectors to compute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53000" y="2125800"/>
            <a:ext cx="4033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scanners, cameras, storage drives to computer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swappable, low data stream, non-powered 480 mBps (2.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99080" y="609480"/>
            <a:ext cx="4444920" cy="444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253980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3809880" cy="2516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B Cabl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ewire aka 1394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pin to 4 pin mini used to connect DV cameras to computer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t swappable, high data stream 800 m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630600" cy="3886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11970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91320" y="5105520"/>
            <a:ext cx="2286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 5 or Ethernet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571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210040" cy="1079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2133720"/>
            <a:ext cx="403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100 Base T or Megabit Eth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 Base T or Gigabit Ethernet is available but expe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CA Conn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Home Video Connectors for both audio R&amp;L (white and red) and video (yello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a DVD player to a TV for exam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 One wire for each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00600" y="4127400"/>
            <a:ext cx="38098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F Conn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Home “cable” connec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long video runs with low loss of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break internally, screwed on too tight, rusted or corro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both audio &amp;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53000" y="2503440"/>
            <a:ext cx="40338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NC Conn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yonet connect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for long video runs with low loss of sig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connector - easy to connect and disconn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often found on non-Pro g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Video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pro video equipment.  Contains luminance and color and eliminates dot crawl in standard NTSC vide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53000" y="2330280"/>
            <a:ext cx="40338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 Video (Y-Pb-P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many high end DVD players and video game systems to TV sets, especially with HDTV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tand for RG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Luma (brightn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 = Luma minus b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 = Luma minus 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o is usually carried on a pair of RCA cab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2646360"/>
            <a:ext cx="4038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DMI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HDTV components and carries a digital sign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3276720" cy="2882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4 Inch TRS Audio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audio such as mics, speakers, headphones, etc. to equip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ring = m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rings = ster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S - Tip Ring Sleeve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19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3568680"/>
            <a:ext cx="4826160" cy="328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 TRS Audio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audio such as mics, speakers, headphones, etc. to equipment - only much small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25920" y="1752480"/>
            <a:ext cx="19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03:02:40Z</dcterms:created>
  <dc:creator>GPHS Journalism</dc:creator>
  <dc:description/>
  <dc:language>en-US</dc:language>
  <cp:lastModifiedBy>GPHS JOURNALISM</cp:lastModifiedBy>
  <dcterms:modified xsi:type="dcterms:W3CDTF">2008-09-29T02:19:26Z</dcterms:modified>
  <cp:revision>10</cp:revision>
  <dc:subject/>
  <dc:title>RCA Connectors</dc:title>
</cp:coreProperties>
</file>