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ct" ContentType="image/x-pict"/>
  <Override PartName="/ppt/media/image13.pct" ContentType="image/x-pict"/>
  <Override PartName="/ppt/media/image8.pct" ContentType="image/x-pict"/>
  <Override PartName="/ppt/media/image12.pct" ContentType="image/x-pict"/>
  <Override PartName="/ppt/media/image1.png" ContentType="image/png"/>
  <Override PartName="/ppt/media/image7.pct" ContentType="image/x-pict"/>
  <Override PartName="/ppt/media/image11.pct" ContentType="image/x-pict"/>
  <Override PartName="/ppt/media/image6.pct" ContentType="image/x-pict"/>
  <Override PartName="/ppt/media/image19.pct" ContentType="image/x-pict"/>
  <Override PartName="/ppt/media/image3.pct" ContentType="image/x-pict"/>
  <Override PartName="/ppt/media/image20.pct" ContentType="image/x-pict"/>
  <Override PartName="/ppt/media/image18.pct" ContentType="image/x-pict"/>
  <Override PartName="/ppt/media/image17.pct" ContentType="image/x-pict"/>
  <Override PartName="/ppt/media/image16.pct" ContentType="image/x-pict"/>
  <Override PartName="/ppt/media/image15.pct" ContentType="image/x-pict"/>
  <Override PartName="/ppt/media/image14.pct" ContentType="image/x-pict"/>
  <Override PartName="/ppt/media/image2.pct" ContentType="image/x-pict"/>
  <Override PartName="/ppt/media/image4.pct" ContentType="image/x-pict"/>
  <Override PartName="/ppt/media/image5.pct" ContentType="image/x-pict"/>
  <Override PartName="/ppt/media/image10.pct" ContentType="image/x-pict"/>
  <Override PartName="/ppt/media/image21.jpeg" ContentType="image/jpeg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17C0AB-D27B-4FF8-A57C-73F6AF6914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E99AA1-EA4B-454F-B155-813AA38E6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2FB85C-D61E-44D2-A367-A92B136E9F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CCD532-E678-4447-B5A5-CCFF0BC483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89396-3CC1-410F-837E-619DDE508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6693E4-667C-47EC-80E4-740F40103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6BA19C-8EC6-40B5-938C-4B2B6DFC31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F5004-7314-4E22-9D5A-4659D3D599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B6C44-EF0C-4197-969B-3F98CABCF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BB816E-0901-4C46-9800-1FD475C8C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72B30-2002-4D97-B179-002513CF5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7FFD2-5F10-4A62-A32D-F8CA28410A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F86B3-592F-45E9-9A7F-76E622568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067CE7-92ED-499C-BD7F-73226CF141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F93C87-7423-4D97-A6CD-7679D5A67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0BE1D-B1F8-438A-B3E0-82EEBC42F6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51C36-0AB0-4FD1-BBFF-E5D88FE49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81C66E-7C9A-4F39-BC24-98809095F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6DDBB3-867F-49B4-9F9E-0DA3BF8BF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788ADB-0140-4E77-9B26-D05E899E8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subTitle"/>
          </p:nvPr>
        </p:nvSpPr>
        <p:spPr>
          <a:xfrm>
            <a:off x="457200" y="7617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C63A7C-DC21-4434-8BA5-064648CC0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E38FBF-9B15-47AD-8CF8-E8B9CF848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F20481-FFFC-45E3-A9F6-C8537BEE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9CE804-4106-46BD-B9FB-626DCB3E7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9C20E3-5B88-4F58-81A1-F1D7CDC4DE5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8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51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51"/>
              </a:spcBef>
              <a:buClr>
                <a:srgbClr val="000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51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51"/>
              </a:spcBef>
              <a:buClr>
                <a:srgbClr val="00008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5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2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4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5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5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2155F-DE15-4CAB-838F-9FB5F7CBC1B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ct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ct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pct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pct"/><Relationship Id="rId2" Type="http://schemas.openxmlformats.org/officeDocument/2006/relationships/image" Target="../media/image16.pct"/><Relationship Id="rId3" Type="http://schemas.openxmlformats.org/officeDocument/2006/relationships/image" Target="../media/image17.pct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ct"/><Relationship Id="rId2" Type="http://schemas.openxmlformats.org/officeDocument/2006/relationships/image" Target="../media/image19.pct"/><Relationship Id="rId3" Type="http://schemas.openxmlformats.org/officeDocument/2006/relationships/image" Target="../media/image20.pct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3.pct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ct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ct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ct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ct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ct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ct"/><Relationship Id="rId2" Type="http://schemas.openxmlformats.org/officeDocument/2006/relationships/image" Target="../media/image10.pct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ors for Video/Audio/Compu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3848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4648320" y="1980720"/>
            <a:ext cx="403848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XLR Audio Plu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connect audio such as mics, speakers to pro audio equipmen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hree pins are ground, hot and cold to create balanced audi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4653000" y="2803680"/>
            <a:ext cx="4033800" cy="22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VGA/SVGA Plu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computer video monitors to computer or A/V equip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653000" y="2125800"/>
            <a:ext cx="4033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DVI Connecto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LCD video monitors or projectors to computers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4653000" y="2125800"/>
            <a:ext cx="4033800" cy="359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connect scanners, cameras, storage drives to computers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ot swappable, low data stream, non-powered 480 mBps (2.0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699080" y="609480"/>
            <a:ext cx="4444920" cy="4445280"/>
          </a:xfrm>
          <a:prstGeom prst="rect">
            <a:avLst/>
          </a:prstGeom>
          <a:ln w="0">
            <a:noFill/>
          </a:ln>
        </p:spPr>
      </p:pic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762120" y="5105520"/>
            <a:ext cx="2539800" cy="121896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"/>
          <p:cNvPicPr/>
          <p:nvPr/>
        </p:nvPicPr>
        <p:blipFill>
          <a:blip r:embed="rId3"/>
          <a:stretch/>
        </p:blipFill>
        <p:spPr>
          <a:xfrm>
            <a:off x="4800600" y="4114800"/>
            <a:ext cx="3809880" cy="2516040"/>
          </a:xfrm>
          <a:prstGeom prst="rect">
            <a:avLst/>
          </a:prstGeom>
          <a:ln w="0">
            <a:noFill/>
          </a:ln>
        </p:spPr>
      </p:pic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USB Cables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Firewire aka 1394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6 pin to 4 pin mini used to connect DV cameras to computers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Hot swappable, high data stream 800 mBps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4952880" y="838080"/>
            <a:ext cx="3630600" cy="388620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1905120" y="4495680"/>
            <a:ext cx="1197000" cy="13716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3"/>
          <a:stretch/>
        </p:blipFill>
        <p:spPr>
          <a:xfrm>
            <a:off x="5791320" y="5105520"/>
            <a:ext cx="22860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at 5 or Ethernet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4648320" y="1571760"/>
            <a:ext cx="4038480" cy="30286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1295280" y="4800600"/>
            <a:ext cx="2210040" cy="1079640"/>
          </a:xfrm>
          <a:prstGeom prst="rect">
            <a:avLst/>
          </a:prstGeom>
          <a:ln w="0">
            <a:noFill/>
          </a:ln>
        </p:spPr>
      </p:pic>
      <p:sp>
        <p:nvSpPr>
          <p:cNvPr id="158" name=""/>
          <p:cNvSpPr/>
          <p:nvPr/>
        </p:nvSpPr>
        <p:spPr>
          <a:xfrm>
            <a:off x="533520" y="2133720"/>
            <a:ext cx="403380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urrently 100 Base T or Megabit Etherne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1000 Base T or Gigabit Ethernet is available but expensive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CA Conne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Home Video Connectors for both audio R&amp;L (white and red) and video (yellow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connect a DVD player to a TV for exampl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advantages: One wire for each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4648320" y="1905120"/>
            <a:ext cx="3733560" cy="2800080"/>
          </a:xfrm>
          <a:prstGeom prst="rect">
            <a:avLst/>
          </a:prstGeom>
          <a:ln w="0">
            <a:noFill/>
          </a:ln>
        </p:spPr>
      </p:pic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4800600" y="4127400"/>
            <a:ext cx="3809880" cy="273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RF Conne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andard Home “cable” connector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for long video runs with low loss of signa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ften break internally, screwed on too tight, rusted or corrod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arries both audio &amp; video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4653000" y="2503440"/>
            <a:ext cx="403380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NC Connecto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ayonet connector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for long video runs with low loss of signa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Pro connector - easy to connect and disconnec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ot often found on non-Pro gear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4648320" y="2409840"/>
            <a:ext cx="4038480" cy="302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-Video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pro video equipment.  Contains luminance and color and eliminates dot crawl in standard NTSC video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4653000" y="2330280"/>
            <a:ext cx="4033800" cy="31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mponent Video (Y-Pb-Pr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sed to connect many high end DVD players and video game systems to TV sets, especially with HDTV.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oes not stand for RGB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Y = Luma (brightness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b = Luma minus blu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Pr = Luma minus re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udio is usually carried on a pair of RCA cable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4648320" y="2646360"/>
            <a:ext cx="4038480" cy="255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HDMI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HDTV components and carries a digital signal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724280" y="198108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3352680" y="3657600"/>
            <a:ext cx="3276720" cy="2882880"/>
          </a:xfrm>
          <a:prstGeom prst="rect">
            <a:avLst/>
          </a:prstGeom>
          <a:ln w="0">
            <a:noFill/>
          </a:ln>
        </p:spPr>
      </p:pic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1/4 Inch TRS Audio Plu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980720"/>
            <a:ext cx="4033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audio such as mics, speakers, headphones, etc. to equipmen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One ring = mon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2 rings = stereo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RS - Tip Ring Sleeve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6781680" y="990720"/>
            <a:ext cx="194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838080" y="3568680"/>
            <a:ext cx="4826160" cy="328932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61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mini TRS Audio Plu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38102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8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Used to connect audio such as mics, speakers, headphones, etc. to equipment - only much smaller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5425920" y="1752480"/>
            <a:ext cx="19479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09T03:02:40Z</dcterms:created>
  <dc:creator>GPHS Journalism</dc:creator>
  <dc:description/>
  <dc:language>en-US</dc:language>
  <cp:lastModifiedBy>GPHS JOURNALISM</cp:lastModifiedBy>
  <dcterms:modified xsi:type="dcterms:W3CDTF">2008-09-29T02:19:26Z</dcterms:modified>
  <cp:revision>10</cp:revision>
  <dc:subject/>
  <dc:title>RCA Connectors</dc:title>
</cp:coreProperties>
</file>