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3.png" ContentType="image/png"/>
  <Override PartName="/ppt/media/image51.png" ContentType="image/png"/>
  <Override PartName="/ppt/media/image4.jpeg" ContentType="image/jpeg"/>
  <Override PartName="/ppt/media/image48.jpeg" ContentType="image/jpeg"/>
  <Override PartName="/ppt/media/image35.wmf" ContentType="image/x-wmf"/>
  <Override PartName="/ppt/media/image47.wmf" ContentType="image/x-wmf"/>
  <Override PartName="/ppt/media/image13.jpeg" ContentType="image/jpeg"/>
  <Override PartName="/ppt/media/image46.png" ContentType="image/png"/>
  <Override PartName="/ppt/media/image45.wmf" ContentType="image/x-wmf"/>
  <Override PartName="/ppt/media/image49.jpeg" ContentType="image/jpeg"/>
  <Override PartName="/ppt/media/image43.jpeg" ContentType="image/jpeg"/>
  <Override PartName="/ppt/media/image42.jpeg" ContentType="image/jpeg"/>
  <Override PartName="/ppt/media/image41.png" ContentType="image/png"/>
  <Override PartName="/ppt/media/image39.wmf" ContentType="image/x-wmf"/>
  <Override PartName="/ppt/media/image37.png" ContentType="image/png"/>
  <Override PartName="/ppt/media/image31.png" ContentType="image/png"/>
  <Override PartName="/ppt/media/image2.jpeg" ContentType="image/jpeg"/>
  <Override PartName="/ppt/media/image33.jpeg" ContentType="image/jpeg"/>
  <Override PartName="/ppt/media/image30.wmf" ContentType="image/x-wmf"/>
  <Override PartName="/ppt/media/image73.png" ContentType="image/png"/>
  <Override PartName="/ppt/media/image10.gif" ContentType="image/gif"/>
  <Override PartName="/ppt/media/image52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88.jpeg" ContentType="image/jpeg"/>
  <Override PartName="/ppt/media/image56.png" ContentType="image/png"/>
  <Override PartName="/ppt/media/image40.jpeg" ContentType="image/jpeg"/>
  <Override PartName="/ppt/media/image17.wmf" ContentType="image/x-wmf"/>
  <Override PartName="/ppt/media/image27.jpeg" ContentType="image/jpeg"/>
  <Override PartName="/ppt/media/image86.jpeg" ContentType="image/jpeg"/>
  <Override PartName="/ppt/media/image55.wmf" ContentType="image/x-wmf"/>
  <Override PartName="/ppt/media/image14.jpeg" ContentType="image/jpeg"/>
  <Override PartName="/ppt/media/image28.gif" ContentType="image/gif"/>
  <Override PartName="/ppt/media/image85.jpeg" ContentType="image/jpeg"/>
  <Override PartName="/ppt/media/image24.jpeg" ContentType="image/jpeg"/>
  <Override PartName="/ppt/media/image83.jpeg" ContentType="image/jpeg"/>
  <Override PartName="/ppt/media/image19.wmf" ContentType="image/x-wmf"/>
  <Override PartName="/ppt/media/image26.wmf" ContentType="image/x-wmf"/>
  <Override PartName="/ppt/media/image61.jpeg" ContentType="image/jpeg"/>
  <Override PartName="/ppt/media/image62.png" ContentType="image/png"/>
  <Override PartName="/ppt/media/image64.jpeg" ContentType="image/jpeg"/>
  <Override PartName="/ppt/media/image91.jpeg" ContentType="image/jpeg"/>
  <Override PartName="/ppt/media/image63.gif" ContentType="image/gif"/>
  <Override PartName="/ppt/media/image66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80.jpeg" ContentType="image/jpeg"/>
  <Override PartName="/ppt/media/image21.jpeg" ContentType="image/jpeg"/>
  <Override PartName="/ppt/media/image77.wmf" ContentType="image/x-wmf"/>
  <Override PartName="/ppt/media/image90.jpeg" ContentType="image/jpeg"/>
  <Override PartName="/ppt/media/image6.jpeg" ContentType="image/jpeg"/>
  <Override PartName="/ppt/media/image58.wmf" ContentType="image/x-wmf"/>
  <Override PartName="/ppt/media/image69.jpeg" ContentType="image/jpeg"/>
  <Override PartName="/ppt/media/image67.wmf" ContentType="image/x-wmf"/>
  <Override PartName="/ppt/media/image60.jpeg" ContentType="image/jpeg"/>
  <Override PartName="/ppt/media/image70.wmf" ContentType="image/x-wmf"/>
  <Override PartName="/ppt/media/image79.jpeg" ContentType="image/jpeg"/>
  <Override PartName="/ppt/media/image74.wmf" ContentType="image/x-wmf"/>
  <Override PartName="/ppt/media/image75.wmf" ContentType="image/x-wmf"/>
  <Override PartName="/ppt/media/image72.jpeg" ContentType="image/jpeg"/>
  <Override PartName="/ppt/media/image71.jpeg" ContentType="image/jpeg"/>
  <Override PartName="/ppt/media/image68.jpeg" ContentType="image/jpeg"/>
  <Override PartName="/ppt/media/image54.png" ContentType="image/png"/>
  <Override PartName="/ppt/media/image76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22.jpeg" ContentType="image/jpeg"/>
  <Override PartName="/ppt/media/image9.png" ContentType="image/png"/>
  <Override PartName="/ppt/media/image89.jpeg" ContentType="image/jpeg"/>
  <Override PartName="/ppt/media/image1.jpeg" ContentType="image/jpeg"/>
  <Override PartName="/ppt/media/image15.png" ContentType="image/png"/>
  <Override PartName="/ppt/media/image3.png" ContentType="image/png"/>
  <Override PartName="/ppt/media/image82.jpeg" ContentType="image/jpeg"/>
  <Override PartName="/ppt/media/image23.jpeg" ContentType="image/jpeg"/>
  <Override PartName="/ppt/media/image18.wmf" ContentType="image/x-wmf"/>
  <Override PartName="/ppt/media/image78.wmf" ContentType="image/x-wmf"/>
  <Override PartName="/ppt/media/image36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20.wmf" ContentType="image/x-wmf"/>
  <Override PartName="/ppt/media/image5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4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4B2-6EC4-4A91-B675-A2B7EBD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857-E97D-4828-9082-3502C87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828-B9B4-45E0-8AF1-46B69A67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CE6-45E1-423F-AD40-15876A8E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6C1E-13CD-4ADE-8759-880CB01D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6437-6441-4DD7-B5A0-9BDE4A14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7844-59BD-4CB1-BE71-7E32F8CF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15B8-3FF6-43A7-9FD0-37A3C71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7395-9DCE-43C4-9AE2-5C137C42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B3F-FC20-49A0-AF46-68A6AE0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F594-F360-4EE8-904F-7B58B7D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EF0-A354-4EEE-95CD-F5A4B6B3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C67-4282-4756-8504-8E85AAF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B13A-2343-4FC2-8849-616882F7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C443-F514-4C2F-A3DC-C5BF0464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64CD-80ED-4129-AC1F-1075FD40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212C-29BF-4D5F-9120-402A60C2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3AC-D621-4E99-AAFB-963FFC9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2CB-151A-4AC4-96E8-85DD728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FE7-3E35-4C95-9C97-8574ED7F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AFC-D633-4975-BC77-8C3CD5FB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DFA-AF49-4FD4-9B87-4D585D8E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CA9-EF99-42FE-9294-ACBBEB6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346-1A7C-4E16-92EB-89A3D9B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51C-BEAF-4C1D-9834-9461B307AF58}" type="slidenum">
              <a:rPr b="0" lang="bs-B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9EE6-4EEA-4C04-91A0-E0C3842E68F4}" type="slidenum">
              <a:rPr b="0" lang="bs-B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ites.google.com/site/stjepansaban/mineraliuprehrani/zub.jpg?attredirects=0" TargetMode="Externa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monikabookillustrator.com/wp-content/uploads/monkey-banana-cartoon-illustration.jpg" TargetMode="External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9/John_Dalto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sodahead.com/fun/my-drawings/blog-377293/" TargetMode="External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roj atoma u ljudskom tijelu-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zastupljenost hemijskih elemena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Čega smo mi ustvari zbir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liko, i kakvih atoma ima u našem tijelu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1906560" cy="289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19320" y="39625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d kojih elemenata smo sastavljeni i u kojim količinam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prije dvjesto godina, ovo su bila pitanja za pjesnike i filozofe, na koja tada nisu mogli odgovoriti..A onda su “došli” naučnici, sve to izmjerili i zaključili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...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188604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24280" y="3124080"/>
            <a:ext cx="3581640" cy="29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nimljivo je znati da je broj atoma u ljudskom tijelu milion puta veći od broja zvijezda u Svemir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257800" cy="305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sječno ljudsko tijelo čija je masa 70 kg, sastoji se od oko 60 hemijskih elemena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013200" cy="334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676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65% mase 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762120"/>
            <a:ext cx="144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Tahoma"/>
              </a:rPr>
              <a:t>Kisik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257800" cy="385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liko je atoma kisika u prosječnom ljudskom tijelu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1219320"/>
          <a:ext cx="2286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2286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142160" y="1066680"/>
            <a:ext cx="3885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M= molarna masa kisika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m= ukupna masa kisika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= broj jedinki (atoma)</a:t>
            </a: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bs-BA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= Avogadrov br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Odredimo broj ato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733920" y="3048120"/>
          <a:ext cx="205740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8120"/>
                    <a:ext cx="20574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62120" y="2971800"/>
          <a:ext cx="2666880" cy="16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71800"/>
                    <a:ext cx="26668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733920" y="4343400"/>
          <a:ext cx="22860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4343400"/>
                    <a:ext cx="2286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165000" y="441972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toma kis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sik je jedan od važnijih elemenata i zahtijeva veću pažnju.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02392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Nužan za održavanje i razvoj gotovo svih živih organiza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sudjeluje u raznim biohemijskim procesim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najvažniji je za oksidaciju pri čemu se oslobađa energi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1003320"/>
            <a:ext cx="800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...glavni izvor energije za rad mozga i svih organa. Stabilizira nervni sistem i djeluje smirujuće,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248520" y="3962520"/>
            <a:ext cx="2398680" cy="2641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87840" y="2057400"/>
            <a:ext cx="455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...uništava anaerobne bakterije (koje se održavaju bez kisika), viruse i parazite, snažno neutralizira toksine i uklanja štetne slobodne radikale iz organiz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375480"/>
            <a:ext cx="5181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Prvi simptomi manjka kisika u organizmu su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mo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slabo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osjećaj hladnoć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slabljenje pamćenja i koncentracij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lupanje src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bolovi u mišići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bljedil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vrtoglavic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razdražljivo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česte infekci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pojačano lučenje želučane kiseline.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34008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205720"/>
            <a:ext cx="441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panski naučnici proizveli vodu s povećanim udjelom kisi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00mg/l kisika (35 puta više u odnosu na običnu vodu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Ja, svemir atoma, atom u Svemiru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4680" y="54100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R. Feynman (1918-1988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Ugljik C:</a:t>
            </a: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U tijelu čini 18% ukupne mase, tj. 12,6kg</a:t>
            </a:r>
            <a:br>
              <a:rPr sz="3200"/>
            </a:br>
            <a:br>
              <a:rPr sz="3200"/>
            </a:br>
            <a:r>
              <a:rPr b="1" lang="bs-BA" sz="3200" spc="-1" strike="noStrike">
                <a:solidFill>
                  <a:srgbClr val="ffffff"/>
                </a:solidFill>
                <a:latin typeface="Arial"/>
              </a:rPr>
              <a:t>Analognim računanjem, kao za kisik, dobijemo da imamo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133720" y="4800600"/>
          <a:ext cx="44956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800600"/>
                    <a:ext cx="44956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629400" y="5029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glj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2857320" cy="21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884160"/>
            <a:ext cx="358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gljik (C) je nemetal crne b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ustoć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513 g/cm3 (dijamant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267 g/cm3 (grafi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98748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postoji ogroman broj ugljikovih spojeva –cijela jedna grana hemije bavi upravo tim spojevima (organska hemija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819520"/>
            <a:ext cx="3809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glavni proizvođač energije unutar tijel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glavni sastojak škroba, šećera i ma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Unešen u tijel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ao hran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ombinovan sa kisikom udahnutim iz zrak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održava tijelo toplim i daje mišićima snagu za ra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2057400" cy="1749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400800" y="2666880"/>
            <a:ext cx="1957320" cy="2971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019600" cy="183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dik H: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odika, procentualno, imamo 10% mase, tj 7 kg, ili izraženo brojem atom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38480" y="3581280"/>
          <a:ext cx="31244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581280"/>
                    <a:ext cx="31244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85800" y="3124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dik i kisik u kombinaciji daju vodu, pa se može izračunati da se oko 70% ljudskog tijela sastoji od vode.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2860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38088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Duš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ezbojan plin, bez okusa i mir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itan sastoj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ljudskog tij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isutan 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svim spojevima bjelančev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omoću njega biljke sintetiziraju važ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organske spoje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U ljudskom tijelu 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zastupljen oko 3% mase, što izno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38280" y="5029200"/>
          <a:ext cx="1981440" cy="66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5029200"/>
                    <a:ext cx="19814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4617000" y="518148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952880" y="762120"/>
            <a:ext cx="4191120" cy="3587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90360" y="228600"/>
            <a:ext cx="11271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2362320" cy="2257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67080" y="5331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Arial"/>
              </a:rPr>
              <a:t>Kalcijuma naše tijelo ima  1.5% mase, što je oko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800600" y="1752480"/>
          <a:ext cx="1981080" cy="7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752480"/>
                    <a:ext cx="19810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97240" y="1982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57200" y="2895480"/>
            <a:ext cx="4114800" cy="3178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029200" y="3184560"/>
            <a:ext cx="345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99 % ovog minerala u ljudskom tijelu nalazimo u kostima, a ostatak od oko 1% u krvi, limfi i tjelesnim tekućin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6680" y="108324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osječna dnevna potreba za kalcijem kod odrasle, zdrave osobe, procijenjena je na oko 800-1300 miligrama i ovisna je o starosnoj dob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513520"/>
            <a:ext cx="491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jbogatiji su izvori kalcija mlijeko i mliječni proizvodi, te sardine, soja,  crvena paprika i dagn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143160" cy="4143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3429000" cy="229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28600"/>
            <a:ext cx="450684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719360" cy="24386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352680" y="10648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loga fosfora u ljudskom organizmu uključena je u sve naše vitalne funkc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808800"/>
            <a:ext cx="446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Oko 85% ukupnog fosfora u organizmu nalazi se u kostima, dok je ostatak raspodijeljen u krvi i mekim tjelesnim tkivima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0560" y="22856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sfora ima 1% ukupne mase u tijelu, što je ok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0" y="3505320"/>
          <a:ext cx="1790640" cy="68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505320"/>
                    <a:ext cx="17906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629400" y="3505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374000"/>
            <a:ext cx="37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oličina fosfora koji se apsorbuje u organizmu mora odgovarati količini apsorbovanog kalciju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Zamislite da jabuku prerežemo popola, a zatim jedan od tih dijelova opet na dva dijela...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itanje: Možemo li tako nastaviti u beskraj, tj. postoji li najmanji komadić koji je još uvijek jabuka?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1719000" cy="2438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ffffff"/>
                </a:solidFill>
                <a:latin typeface="Arial"/>
              </a:rPr>
              <a:t>Kaliju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19800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alija u tijelu ima 0,25% ukupne mase, odnos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114800" y="3200400"/>
          <a:ext cx="164448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200400"/>
                    <a:ext cx="16444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019920" y="3276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42660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U kombinaciji sa ostalim elektrolitima, omogućuje provodljivost impulsa u nervnim vlaknim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4419360" cy="2935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7200" y="3809880"/>
            <a:ext cx="612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Tenisači dobro znaju da kalija u bananama ima i do 500 mg/100 g pa u svakoj pauzi meča konzumiraju po nekoliko zalog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monkeys eat banana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552840"/>
            <a:ext cx="304812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91332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Specijalne vojne jedinice (marinci) u svom paketu nose i tablete kalija koje uzimaju kada su potpuno iscrplje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76720" cy="332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7621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bs-BA" sz="1800" spc="-1" strike="noStrike">
                <a:solidFill>
                  <a:srgbClr val="ffffff"/>
                </a:solidFill>
                <a:latin typeface="Tahoma"/>
              </a:rPr>
              <a:t>Fizičko iscrpljivanje izazvano intenzivnim treningom dovodi i do psihičkih promjena koje se upravo pripisuju slabljenju elektrolitske veze i smanjenoj provodljivosti živčanih impulsa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”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kaže Ignac Kulier, dr. s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nutricion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436840"/>
            <a:ext cx="327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alij regulira razinu pH, tj. kiselost krvne plazme, a od te razine zavise brojne druge tjelesne funkcije, npr krvni tla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alij je neophodan u metabolizmu proteina i ugljikohidra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potassium-rich foods"/>
          <p:cNvPicPr/>
          <p:nvPr/>
        </p:nvPicPr>
        <p:blipFill>
          <a:blip r:embed="rId1"/>
          <a:stretch/>
        </p:blipFill>
        <p:spPr>
          <a:xfrm>
            <a:off x="4191120" y="2514600"/>
            <a:ext cx="4572000" cy="31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505320" y="1029600"/>
            <a:ext cx="236196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1360" bIns="85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50948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Ime mu potječe od sanskrtskog </a:t>
            </a:r>
            <a:r>
              <a:rPr b="0" i="1" lang="bs-BA" sz="2400" spc="-1" strike="noStrike">
                <a:solidFill>
                  <a:srgbClr val="ffffff"/>
                </a:solidFill>
                <a:latin typeface="Tahoma"/>
              </a:rPr>
              <a:t>sulva-ari</a:t>
            </a:r>
            <a:r>
              <a:rPr b="0" lang="bs-BA" sz="2400" spc="-1" strike="noStrike">
                <a:solidFill>
                  <a:srgbClr val="ffffff"/>
                </a:solidFill>
                <a:latin typeface="Tahoma"/>
              </a:rPr>
              <a:t> što znači neprijatelj bakra.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Mirisom podsjeća na šibice, lagan je i mekan. Gori plavim plamenom pri čemu nastaje sumporov dioksid (SO</a:t>
            </a:r>
            <a:r>
              <a:rPr b="0" lang="bs-BA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3143160" cy="2057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733920" y="302256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 tijelu ga ima 0,25% ukupne mase, odnos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1120" y="3886200"/>
          <a:ext cx="2361960" cy="8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886200"/>
                    <a:ext cx="23619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655308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2192400" cy="2362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Graph showing the main sources of sodium in the average U.S. diet."/>
          <p:cNvPicPr/>
          <p:nvPr/>
        </p:nvPicPr>
        <p:blipFill>
          <a:blip r:embed="rId2"/>
          <a:stretch/>
        </p:blipFill>
        <p:spPr>
          <a:xfrm>
            <a:off x="4648320" y="2514600"/>
            <a:ext cx="3328920" cy="3429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00400" y="27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Natrijuma ima 0.15% ukupne mase, ili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0" y="1371600"/>
          <a:ext cx="19432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71600"/>
                    <a:ext cx="194328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6698880" y="160164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3170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rij je jedan od glavnih elektrolita u organizmu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3961080"/>
            <a:ext cx="366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atrij omogućava ulazak glukoze i ostalih hranjivih supstanci u ćelije, te rad srčanog mišić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8244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jegov „suparnik“ je kalij, koji pumpa vodu i tekućinu iz ć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rincip „natrijum- kalijeve pumpe“</a:t>
            </a:r>
            <a:br>
              <a:rPr sz="2000"/>
            </a:b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876560" cy="364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4120" y="220860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atrij sam nije štetan za zdravlje, nego natrij hlorid, kuhinjska sol i to samo ukoliko se previše unosi u tije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10080" y="396144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nevna količina od 10g kuhinjske soli, odnosno, 4g natrija se ne bi smjela prekoračit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6874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3200400" y="914400"/>
          <a:ext cx="25146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2514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486040" y="10663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2243880"/>
            <a:ext cx="5029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Kontrola protoka tekućina u krvnim žilama i tkiv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Neophodan za održavanje normalne kiselosti u želu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Pomaže i u prenosu ugljičnog dioksida putem krvi do pluća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867280" y="1295280"/>
          <a:ext cx="274320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295280"/>
                    <a:ext cx="274320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6172920" y="27432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oma u tije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02812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Brojne su uloge magnezija u tijelu. Jedna od najčešće spominjanih je sudjelovanje u više od 300 enzimatskih proc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0948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dbbd71"/>
                </a:solidFill>
                <a:latin typeface="Arial"/>
              </a:rPr>
              <a:t>Test o manjku magnezija u tije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523880"/>
            <a:ext cx="4114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 Rounded MT Bold"/>
              </a:rPr>
              <a:t>Ideja da je tvar sastavljena od diskretnih djelića koji se, kako je tvrdio tada, ne mogu dalje dijeliti, pripada Demokritu, grčkom filozofu, koji je i skovao riječ “atom” </a:t>
            </a: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(od grčke riječi άτομος-nedjelj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262872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796400" y="152316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sjećate li se često umorno i iscrpljeno?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19384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599120"/>
            <a:ext cx="80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Reaguju li vaši mišići na dodir i pritisak osjetljivošću i bolnošću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286080" cy="33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43000" y="913320"/>
            <a:ext cx="70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tite li od žestokih bolova u ramenima, rukama, leđima i nogama? 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505320" cy="396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91332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este li podložni grčevima u mišićima i listovima, odnosno je li vas ikad noću uhvatio grč u listu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191120" cy="41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66680" y="1294200"/>
            <a:ext cx="754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ffffff"/>
                </a:solidFill>
                <a:latin typeface="Tahoma"/>
              </a:rPr>
              <a:t>Imate li ikad osjećaj gluhoće, bockanja ili probadanja koje ide od zatiljka u ruke ili od stražnjice u noge?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3072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21322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276720" y="1371600"/>
          <a:ext cx="2933640" cy="111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29336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866920" y="12949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a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843360"/>
            <a:ext cx="693432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ima važnu ulogu u snabdijevanju krvi kisi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dio je hemoglob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u kombinaciji sa drugim hranjivim materijama stvara proteine u krvi i sudjeluje u metabolizm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838080" y="228600"/>
          <a:ext cx="7162560" cy="5952960"/>
        </p:xfrm>
        <a:graphic>
          <a:graphicData uri="http://schemas.openxmlformats.org/drawingml/2006/table">
            <a:tbl>
              <a:tblPr/>
              <a:tblGrid>
                <a:gridCol w="2137320"/>
                <a:gridCol w="1615680"/>
                <a:gridCol w="2066400"/>
                <a:gridCol w="13431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JENČ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JECA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6 m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7 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bs-B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12 m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8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Ž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ŠKAR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3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3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-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70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7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DN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JIL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 18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3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-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 m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1624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4418640"/>
            <a:ext cx="642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mineral iz skupine mikroelemenat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u prehrani potreban u malim količina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Tokom dana normalnom prehranom unosi se od 10 do 15 mg tog minera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8380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 tijelu cinka ima od 1,3 do 2,3 g i uglavnom se nalazi u stanic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najkoncentriraniji je unutarstanični mikroel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333600" cy="22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"/>
          <p:cNvGraphicFramePr/>
          <p:nvPr/>
        </p:nvGraphicFramePr>
        <p:xfrm>
          <a:off x="3200400" y="3200400"/>
          <a:ext cx="266688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200400"/>
                    <a:ext cx="2666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1722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989280"/>
            <a:ext cx="65534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 u="sng">
                <a:solidFill>
                  <a:srgbClr val="ffffff"/>
                </a:solidFill>
                <a:uFillTx/>
                <a:latin typeface="Tahoma"/>
              </a:rPr>
              <a:t>Snižen je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od pušača (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kadmij iz duhanskog dima neprijatelj je cinka) </a:t>
            </a: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alkoholičar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dijabetičar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trudnic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kod poremećaja u apsorpciji zbog nekih crijevnih bolesti,  nakon operativnih zahvat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ffffff"/>
                </a:solidFill>
                <a:latin typeface="Tahoma"/>
              </a:rPr>
              <a:t>Veće potrebe za cinkom imaju i sportaši i aktivni rekreativ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820880" cy="2581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2060640" cy="27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Datoteka:John Dal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838080"/>
            <a:ext cx="3166920" cy="4419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267080" y="175248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00"/>
                </a:solidFill>
                <a:latin typeface="Tahoma"/>
              </a:rPr>
              <a:t>John Dalton, 1808. jasno formulirao pojam hemijskog elemen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62120" y="20026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Tahoma"/>
              </a:rPr>
              <a:t>U formi kompleksa s proteinima nalazi se u gotovo svim organima, najviše u prosta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486240" cy="441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U predavanju sam navela nekoliko prvih, najzastupljenijih elemenata u ljudskom tijelu.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Mada su koncentracije mnoštva ostalih elemenata u ljudskom tijelu daleko ispod jednog procenta, to ne znači da ih možemo i smijemo zanemariti!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ff"/>
                </a:solidFill>
                <a:latin typeface="Arial"/>
              </a:rPr>
              <a:t>Upravo  te male koncentracije su one koje određuju sve bitne procese u našim tijelima!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nimljivos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judsko tijelo sadrži i arsenik, u antičko doba poznat kao otrov.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4080" y="2362320"/>
          <a:ext cx="220356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362320"/>
                    <a:ext cx="2203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609480" y="3124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li, izraženo brojem atom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743200" y="3124080"/>
          <a:ext cx="16002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6002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28600" y="4343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Ovo znači da bi svaki stanovnik Zemlje, (ako pretpostavimo da nas ima 6 milijardi),  kada bi svaki atom bio jedan eur, u ruci imao milijardu eur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5943600" y="3048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osječno ljudsko tijelo sadrži ok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819520" y="2133720"/>
          <a:ext cx="304776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133720"/>
                    <a:ext cx="304776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867280" y="25909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ato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37339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dbbd71"/>
                </a:solidFill>
                <a:latin typeface="Tahoma"/>
              </a:rPr>
              <a:t>a zvijezda u Svemiru 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819520" y="4267080"/>
          <a:ext cx="198108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267080"/>
                    <a:ext cx="198108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850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2057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dik, kisik i helij, potpomognuti sa ostalih 1,03%, “odgovorni” su za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-357120" y="0"/>
            <a:ext cx="10145520" cy="6935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963440" y="14731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šć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95280" y="1297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vaku vlat trav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će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157320" y="0"/>
            <a:ext cx="930132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288160" y="297180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jesak u pustin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318120" cy="4496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M.V. Lomonosov, među prvima je pokušao naučno odrediti veličinu atoma. </a:t>
            </a:r>
            <a:br>
              <a:rPr sz="2400"/>
            </a:br>
            <a:br>
              <a:rPr sz="2400"/>
            </a:b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Zapazio je da iskusni draguljar može razvaljati listić zlata na </a:t>
            </a:r>
            <a:br>
              <a:rPr sz="2400"/>
            </a:br>
            <a:r>
              <a:rPr b="1" lang="bs-BA" sz="2400" spc="-1" strike="noStrike">
                <a:solidFill>
                  <a:srgbClr val="ffff00"/>
                </a:solidFill>
                <a:latin typeface="Arial"/>
              </a:rPr>
              <a:t>deset hiljaditi dio centimetra</a:t>
            </a:r>
            <a:r>
              <a:rPr b="1" lang="bs-BA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2762280" cy="27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ine i mo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šu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vijeć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6480"/>
            <a:ext cx="9144000" cy="685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030329_war_0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a sve one koji vas vol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TWIP_2003_1204_03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koje vi volite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TWIP_2003_0213_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6680" y="914400"/>
            <a:ext cx="570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Literatura:</a:t>
            </a:r>
            <a:br>
              <a:rPr sz="1800"/>
            </a:br>
            <a:br>
              <a:rPr sz="1800"/>
            </a:b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      Geigy Scientific Tables, Ciba Geigy Limited, Basel Switzerland, 1984</a:t>
            </a:r>
            <a:br>
              <a:rPr sz="1800"/>
            </a:br>
            <a:br>
              <a:rPr sz="1800"/>
            </a:br>
            <a:r>
              <a:rPr b="1" lang="bs-BA" sz="1800" spc="-1" strike="noStrike">
                <a:solidFill>
                  <a:srgbClr val="ffffff"/>
                </a:solidFill>
                <a:latin typeface="Tahoma"/>
              </a:rPr>
              <a:t> Zbornik predavanja, seminar za nastavnike i profesore fizike, Sarajevo 2009.</a:t>
            </a: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9396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95680" y="220932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Benjamin Franklin primijetio je da se kašičica ulja (5cm</a:t>
            </a:r>
            <a:r>
              <a:rPr b="0" lang="bs-BA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) izlivenog na površinu mirne vode razlije na mrlju veličine 2000m</a:t>
            </a:r>
            <a:r>
              <a:rPr b="0" lang="bs-BA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bs-BA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 J. Loschmidt"/>
          <p:cNvPicPr/>
          <p:nvPr/>
        </p:nvPicPr>
        <p:blipFill>
          <a:blip r:embed="rId1"/>
          <a:stretch/>
        </p:blipFill>
        <p:spPr>
          <a:xfrm>
            <a:off x="762120" y="9907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81280" y="7394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Johann Joseph Loschmid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prvi uspješni pokušaj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u procjenjivanju veličine at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Prečnik atoma 10</a:t>
            </a:r>
            <a:r>
              <a:rPr b="0" lang="bs-BA" sz="2800" spc="-1" strike="noStrike" baseline="30000">
                <a:solidFill>
                  <a:srgbClr val="ffffff"/>
                </a:solidFill>
                <a:latin typeface="Tahoma"/>
              </a:rPr>
              <a:t>-10 </a:t>
            </a:r>
            <a:r>
              <a:rPr b="0" lang="bs-BA" sz="2800" spc="-1" strike="noStrike">
                <a:solidFill>
                  <a:srgbClr val="ffffff"/>
                </a:solidFill>
                <a:latin typeface="Tahoma"/>
              </a:rPr>
              <a:t>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7590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, bez obzira na svoju izvanrednu sićušnost, atomi nisu beznačajni!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ebno, ako pokušamo otkriti, koliko ih ima oko nas, ili u nama..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2590560" cy="235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na Dervišagić, prof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 Opća gimnazija "Bosanska Krupa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333</cp:lastModifiedBy>
  <dcterms:modified xsi:type="dcterms:W3CDTF">2012-01-09T18:15:0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