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F8C-C576-46A9-AE19-D1412684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961-91FF-43D4-B57A-F45C6FA2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C28-594F-43EE-9812-45B6A990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D77-0A19-4ED6-A6AE-667D7082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7DB-165E-419A-8DE1-364B3DFA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470-B600-4CC6-8DF4-ECC41E11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6DB-E045-462D-8768-18DF291F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8C9-E45D-4337-B3E8-08F1A757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AB9-B1B3-4CCC-906A-44B7C8EC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E19-C0C8-481D-84F0-1DBA1568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A02-EA10-4641-9FCA-87B3E619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AC3-818E-4DBF-9402-9A347E3A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19985-5ABE-4855-B713-11D25D3A10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9D529-A1E6-4E21-89AD-7F817B31223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7:32:20Z</dcterms:created>
  <dc:creator>최봉수</dc:creator>
  <dc:description/>
  <dc:language>en-US</dc:language>
  <cp:lastModifiedBy>맛있다 군만두</cp:lastModifiedBy>
  <dcterms:modified xsi:type="dcterms:W3CDTF">2024-09-24T07:55:38Z</dcterms:modified>
  <cp:revision>3</cp:revision>
  <dc:subject/>
  <dc:title>슬라이드 1</dc:title>
</cp:coreProperties>
</file>