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9C0-9D06-4A83-85AB-476E3F03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C5C-0076-42C0-A4EB-38D0C7CA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ADF-CE01-4864-93E1-8EE0205D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E4E-9873-4967-8970-5D9B48F4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15F-CBA9-4F50-88C0-ADEC18D2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8BF-FF2C-417A-AB2C-4ADCAB2A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1F7-A530-4B87-BF7D-6970F25F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19A-D4B8-433E-8C92-9D9E5221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4C6-BB17-4A4C-8D15-25B65378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C27-B4B4-47C2-94D2-4D78CF2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724-FD89-47E3-BA90-3F956F8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435-C4BC-4256-9A7E-BBEF171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9D945-E516-4EB0-9A30-3D0F4A32FE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9FD63-D227-4285-9A7F-4C961AA40B7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7:32:20Z</dcterms:created>
  <dc:creator>최봉수</dc:creator>
  <dc:description/>
  <dc:language>en-US</dc:language>
  <cp:lastModifiedBy>맛있다 군만두</cp:lastModifiedBy>
  <dcterms:modified xsi:type="dcterms:W3CDTF">2024-09-24T07:55:38Z</dcterms:modified>
  <cp:revision>3</cp:revision>
  <dc:subject/>
  <dc:title>슬라이드 1</dc:title>
</cp:coreProperties>
</file>