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Kopie%20van%2004%20-%20Track%20%204.wav" ContentType="audio/x-wav"/>
  <Override PartName="/ppt/media/image1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02D-DAB7-46CC-87F0-06D4D5EE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D06-8773-4523-A953-26CD7D4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04A-C278-4A85-A615-DFD1833B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71E-0985-439E-8539-495254D8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DE4-2564-475F-A13C-2ED52F63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C25-466C-47EB-8498-D85167E6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974-BF2F-4AF8-810D-38F62152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105-1E50-4929-95AF-322B57D7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8EC-AD0B-4544-AECE-C1D3E01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4F3-225C-465C-BC57-EAA1E431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BB2-399D-4439-AB77-E9BD241B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130-3E6A-409B-B82A-01EA8E0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DE28-D160-46F9-93E7-806D20318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Kopie%20van%2004%20-%20Track%20%204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1904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000" spc="-1" strike="noStrike">
                <a:solidFill>
                  <a:srgbClr val="c9cfcb"/>
                </a:solidFill>
                <a:latin typeface="Broadway"/>
              </a:rPr>
              <a:t>Jacques Br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5300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000" spc="-1" strike="noStrike">
                <a:solidFill>
                  <a:srgbClr val="51767b"/>
                </a:solidFill>
                <a:latin typeface="Broadway"/>
              </a:rPr>
              <a:t>Ne me quitte pas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45200" y="641844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3366ff"/>
                </a:solidFill>
                <a:latin typeface="Arial"/>
              </a:rPr>
              <a:t>Geluid aanz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1767b"/>
                                      </p:to>
                                    </p:animClr>
                                    <p:animClr clrSpc="rgb">
                                      <p:cBhvr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1767b"/>
                                      </p:to>
                                    </p:animClr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568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6640" y="497880"/>
            <a:ext cx="32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t'inventera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s mots insensé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e tu comprendr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4600" y="619560"/>
            <a:ext cx="25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aat me niet a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verzin voor j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woorden zonder z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ie jij zal ver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335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4440" y="150120"/>
            <a:ext cx="36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te parlera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 ces amants là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i ont vu deux foi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eurs cœurs s'emb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27440" y="5372640"/>
            <a:ext cx="385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je ver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over die gelief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ie een tweede m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hun harten zagen ontbran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765040" y="5084640"/>
            <a:ext cx="34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Ik zal je ver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over di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die gestorve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omdat hij jou niet kon ke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6360" y="404640"/>
            <a:ext cx="5219640" cy="568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219640" y="-21744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te racont'ra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'histoire de ce ro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Mort de n'avoir pa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Pu te rencont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89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692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1773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342900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530064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6280" y="699480"/>
            <a:ext cx="36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n a vu souven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Rejaillir le feu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 l'ancien volcan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'on croyait trop v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200" y="5156640"/>
            <a:ext cx="339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Hoe vaak zie je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het vuur weer spu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uit een oude vul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ie voorgoed leek gedoo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60" y="410760"/>
            <a:ext cx="307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Il est parait il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s terres brûlée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onnant plus de blé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'un meilleur av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36760" y="5299560"/>
            <a:ext cx="373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er zijn naar het schij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verbrande v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ie meer graan voort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an de beste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995400"/>
            <a:ext cx="7417080" cy="491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200880" y="151920"/>
            <a:ext cx="366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Et quand vient le soi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Pour qu'un ciel flamboi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e rouge et le noi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Ne s'épousent ils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48760" y="5228280"/>
            <a:ext cx="254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als de avond v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de hemel vla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gaan rood en zw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hand in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80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9800" y="548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6520" y="213300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13800" y="3572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28440" y="488736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4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8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41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61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2033640"/>
            <a:ext cx="3810240" cy="279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56000" y="69840"/>
            <a:ext cx="4265640" cy="6667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4040" y="5083560"/>
            <a:ext cx="28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aat me niet a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niet meer hui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niet meer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me versto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7800" y="271800"/>
            <a:ext cx="288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Monotype Corsiva"/>
              </a:rPr>
              <a:t>Je n'vais plus pleurer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Monotype Corsiva"/>
              </a:rPr>
              <a:t>Je n'vais plus parler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Monotype Corsiva"/>
              </a:rPr>
              <a:t>Je me cacherai l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252000" cy="698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129240" y="281880"/>
            <a:ext cx="295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A te regard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Danser et sour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Et à t'écout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Chanter et puis r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120" y="5083560"/>
            <a:ext cx="268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n naar je kij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Hoe je danst en 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n naar je luis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Hoe je lacht en zin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27640" y="2973600"/>
            <a:ext cx="230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Monotype Corsiva"/>
              </a:rPr>
              <a:t>Il faut oublier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Monotype Corsiva"/>
              </a:rPr>
              <a:t>Tout peut s'oublier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Monotype Corsiva"/>
              </a:rPr>
              <a:t>Qui s'enfuit déj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98720" y="187920"/>
            <a:ext cx="257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Monotype Corsiva"/>
              </a:rPr>
              <a:t>Laat me niet a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Monotype Corsiva"/>
              </a:rPr>
              <a:t>We moeten ver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Monotype Corsiva"/>
              </a:rPr>
              <a:t>Je kunt alles ver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Monotype Corsiva"/>
              </a:rPr>
              <a:t>wat al vager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930320"/>
            <a:ext cx="4174920" cy="40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6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4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18760" y="289800"/>
            <a:ext cx="340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aiss'moi deveni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'ombre de ton ombr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'ombre de ta main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'ombre de ton ch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45440" y="4940640"/>
            <a:ext cx="389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aat me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ls de schaduw van je schad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e schaduw van je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e schaduw van je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02200" y="2421000"/>
            <a:ext cx="3714840" cy="3736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19814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793960" cy="3594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60028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067280" y="33336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Mais 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78880" y="227592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8080" y="402192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880" y="529992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8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48360" y="47242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Monotype Corsiva"/>
              </a:rPr>
              <a:t>Vergeet me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62064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Monotype Corsiva"/>
              </a:rPr>
              <a:t>Ne me quitte pas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368280"/>
            <a:ext cx="4189320" cy="60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3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08000" y="981000"/>
            <a:ext cx="3961080" cy="236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PPS  Jo Delsy</a:t>
            </a:r>
            <a:endParaRPr b="1" lang="en-US" sz="6000" spc="1" strike="noStrike">
              <a:ln w="9360">
                <a:solidFill>
                  <a:srgbClr val="0099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24360" y="3357720"/>
            <a:ext cx="237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April 2006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6165720"/>
            <a:ext cx="313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66ff"/>
                </a:solidFill>
                <a:latin typeface="Andy"/>
              </a:rPr>
              <a:t> </a:t>
            </a:r>
            <a:r>
              <a:rPr b="0" lang="nl-BE" sz="1600" spc="-1" strike="noStrike">
                <a:solidFill>
                  <a:srgbClr val="0066ff"/>
                </a:solidFill>
                <a:latin typeface="Andy"/>
              </a:rPr>
              <a:t>http://members.lycos.nl/muscita</a:t>
            </a:r>
            <a:r>
              <a:rPr b="0" lang="nl-NL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79640" y="558972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-184320"/>
            <a:ext cx="21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ublier le temp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 malentendu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Et le temps perdu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A savoir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160" y="4580280"/>
            <a:ext cx="368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e tijd ver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van de misverst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de tijd die we verl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met het zoeken naar het ho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40160" y="333360"/>
            <a:ext cx="4048200" cy="621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312840"/>
            <a:ext cx="7274160" cy="6230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3440" y="505800"/>
            <a:ext cx="319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ublier ces heure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i tuaient parfoi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A coups de pourquo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e cœur du bonheur</a:t>
            </a: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00" y="5012280"/>
            <a:ext cx="311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Monotype Corsiva"/>
              </a:rPr>
              <a:t>De uren ver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Monotype Corsiva"/>
              </a:rPr>
              <a:t>die af en 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Monotype Corsiva"/>
              </a:rPr>
              <a:t>met dreigende waa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Monotype Corsiva"/>
              </a:rPr>
              <a:t>het geluk zelf versti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80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800" y="548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6520" y="213300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13800" y="3572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28440" y="488736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4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8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1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61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48360" y="69840"/>
            <a:ext cx="23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Moi je t'offrira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s perles du plui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Venues de pay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ù il ne pleut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699440"/>
            <a:ext cx="226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je parels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regen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gekomen uit l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waar het niet re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080" y="692280"/>
            <a:ext cx="42116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-141840"/>
            <a:ext cx="25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creus'rai la terr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usqu'après ma mor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Pour couvrir ton corp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'or et de lumiè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2600" y="5156640"/>
            <a:ext cx="338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blijven gr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tot na mijn d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om je lichaam te bed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met goud en 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95640" y="549360"/>
            <a:ext cx="4824360" cy="554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02040" y="476280"/>
            <a:ext cx="499284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2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080" y="4924800"/>
            <a:ext cx="300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geef je een dom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waar de liefde koning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Waar de liefde we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jij konin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5440" y="-105120"/>
            <a:ext cx="237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f'rai un domain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ù l'amour s'ra ro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ù l'amour s'ra lo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ù tu seras rein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2808360" cy="48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80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800" y="548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6520" y="213300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13800" y="3572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28440" y="488736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7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4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4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14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4:48:05Z</dcterms:created>
  <dc:creator>Greet</dc:creator>
  <dc:description>Adapted: Bob Deveen</dc:description>
  <dc:language>en-US</dc:language>
  <cp:lastModifiedBy>Smets</cp:lastModifiedBy>
  <dcterms:modified xsi:type="dcterms:W3CDTF">2008-09-23T18:40:35Z</dcterms:modified>
  <cp:revision>48</cp:revision>
  <dc:subject/>
  <dc:title>Brel (Ne me quitte pas)</dc:title>
</cp:coreProperties>
</file>