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EF8-F165-4636-835E-D8F5BEAB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4BC-4ABF-4639-A6A8-C11C6A52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1E6-F699-402F-B44A-A289BE3A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BA9-C75E-4E15-9A34-0BB89647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47F-D741-4F0B-B5D1-CBC52AC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EF6-E216-4AD2-BF9A-3395F3E3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30C-CBC7-4DF2-B442-4A937494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911-DE0C-4376-A1A6-D9DBF02F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985-8107-4E39-8945-FC357D54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11B-3480-4D23-9CA5-F08795A0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579-8D79-4DF0-8525-F29D42C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271-B787-4E71-B4D5-AA59FDA0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68C-2C9D-420A-B83F-EC3A4F1751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CX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457200" y="3429000"/>
            <a:ext cx="457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The message of the cro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is foolishness to tho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who are peris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but to us who are being sa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it is the power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</a:rPr>
              <a:t>1 Corinthians 1:18 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</a:rPr>
              <a:t>NIV</a:t>
            </a:r>
            <a:r>
              <a:rPr b="1" i="1" lang="en-US" sz="1800" spc="-1" strike="noStrike" baseline="30000">
                <a:solidFill>
                  <a:srgbClr val="02485c"/>
                </a:solidFill>
                <a:latin typeface="Plantagenet Cherokee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lid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838080" y="4267080"/>
            <a:ext cx="4953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“</a:t>
            </a: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N</a:t>
            </a: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either do I condemn you,” Jesus declared. “Go now and leave your life of sin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Plantagenet Cherokee"/>
              </a:rPr>
              <a:t>John 8:11 </a:t>
            </a:r>
            <a:r>
              <a:rPr b="1" i="1" lang="en-US" sz="1800" spc="-1" strike="noStrike">
                <a:solidFill>
                  <a:srgbClr val="04617b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0" y="990720"/>
            <a:ext cx="9144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A Stone’s Th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POCXPPT 3.jpg"/>
          <p:cNvPicPr/>
          <p:nvPr/>
        </p:nvPicPr>
        <p:blipFill>
          <a:blip r:embed="rId1"/>
          <a:stretch/>
        </p:blipFill>
        <p:spPr>
          <a:xfrm>
            <a:off x="2286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4267080" y="838080"/>
            <a:ext cx="4572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only thing standing between the woman and the executioners’ stones? Jesus himself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only thing standing between you and eternal death? Your king—Jesus himself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lide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733920" y="2590920"/>
            <a:ext cx="45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Go to the village ahead of yo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and as you enter i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you will find a colt tied the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which no one has ever rid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Untie it and bring it 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If anyone asks yo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“</a:t>
            </a: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Why are you untying it?” tell him, “The Lord needs it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Plantagenet Cherokee"/>
              </a:rPr>
              <a:t>Luke 19:30–31 </a:t>
            </a:r>
            <a:r>
              <a:rPr b="1" i="1" lang="en-US" sz="1800" spc="-1" strike="noStrike">
                <a:solidFill>
                  <a:srgbClr val="04617b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0" y="914400"/>
            <a:ext cx="9144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The View from the Don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Slide 4.jpg"/>
          <p:cNvPicPr/>
          <p:nvPr/>
        </p:nvPicPr>
        <p:blipFill>
          <a:blip r:embed="rId1"/>
          <a:stretch/>
        </p:blipFill>
        <p:spPr>
          <a:xfrm>
            <a:off x="54864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04920" y="228600"/>
            <a:ext cx="48006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 could not be there to greet our Lord as he entered Jerusalem.  But we can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Praise him with 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hosannas  to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p with him o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lost to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Pray that everyone will 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power of  his cross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oda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0" y="914400"/>
            <a:ext cx="9144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hat Are You Looking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09480" y="39625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Mary Magdalene went to the disciples with the news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“</a:t>
            </a: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I have seen the Lord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Plantagenet Cherokee"/>
              </a:rPr>
              <a:t>John 20:18 </a:t>
            </a:r>
            <a:r>
              <a:rPr b="1" i="1" lang="en-US" sz="1800" spc="-1" strike="noStrike">
                <a:solidFill>
                  <a:srgbClr val="04617b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POCXPPT 3.jpg"/>
          <p:cNvPicPr/>
          <p:nvPr/>
        </p:nvPicPr>
        <p:blipFill>
          <a:blip r:embed="rId1"/>
          <a:stretch/>
        </p:blipFill>
        <p:spPr>
          <a:xfrm>
            <a:off x="22860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581280" y="990720"/>
            <a:ext cx="5562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Plantagenet Cherokee"/>
              </a:rPr>
              <a:t>How do you “see” the resurrection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Blepo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—to glance at </a:t>
            </a:r>
            <a:r>
              <a:rPr b="1" lang="en-US" sz="2600" spc="-1" strike="noStrike">
                <a:solidFill>
                  <a:srgbClr val="ffffff"/>
                </a:solidFill>
                <a:latin typeface="Plantagenet Cherokee"/>
              </a:rPr>
              <a:t>(John 20: 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Theoreo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—to take careful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Plantagenet Cherokee"/>
              </a:rPr>
              <a:t>(John 20: 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Oida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—to get the full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Plantagenet Cherokee"/>
              </a:rPr>
              <a:t>(John 20:8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Slide 4.jpg"/>
          <p:cNvPicPr/>
          <p:nvPr/>
        </p:nvPicPr>
        <p:blipFill>
          <a:blip r:embed="rId1"/>
          <a:stretch/>
        </p:blipFill>
        <p:spPr>
          <a:xfrm>
            <a:off x="54864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304920" y="228600"/>
            <a:ext cx="48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POCXPPT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066680" y="1981080"/>
            <a:ext cx="525780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For Christ’s love compels us, </a:t>
            </a:r>
            <a:br>
              <a:rPr sz="2400"/>
            </a:b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because we are convinced </a:t>
            </a:r>
            <a:br>
              <a:rPr sz="2400"/>
            </a:b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that one died for a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and therefore all died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And he died for a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that those who l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should no longer live for themselves </a:t>
            </a:r>
            <a:br>
              <a:rPr sz="2400"/>
            </a:b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but for him who died for them </a:t>
            </a:r>
            <a:br>
              <a:rPr sz="2400"/>
            </a:b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and was raised aga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</a:rPr>
              <a:t>2 Corinthians 5:14</a:t>
            </a:r>
            <a:r>
              <a:rPr b="1" i="1" lang="en-US" sz="2000" spc="-1" strike="noStrike">
                <a:solidFill>
                  <a:srgbClr val="02485c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</a:rPr>
              <a:t>15 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</a:rPr>
              <a:t>NIV</a:t>
            </a:r>
            <a:r>
              <a:rPr b="1" i="1" lang="en-US" sz="18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1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The Power of the Cro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OCXPPT 3.jpg"/>
          <p:cNvPicPr/>
          <p:nvPr/>
        </p:nvPicPr>
        <p:blipFill>
          <a:blip r:embed="rId1"/>
          <a:stretch/>
        </p:blipFill>
        <p:spPr>
          <a:xfrm>
            <a:off x="54864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609480" y="990720"/>
            <a:ext cx="41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love of Christ compels us!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Not our love for Jesu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but Jesus’ love for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compels 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 follo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Slide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914400"/>
            <a:ext cx="91440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God’s Answer to Our Wh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62120" y="3200400"/>
            <a:ext cx="55623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This sickness will not end in dea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No, it is for God’s gl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so that God’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may be glorified through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John 11:4 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  <a:ea typeface="Times New Roman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OCXPPT 3.jpg"/>
          <p:cNvPicPr/>
          <p:nvPr/>
        </p:nvPicPr>
        <p:blipFill>
          <a:blip r:embed="rId1"/>
          <a:stretch/>
        </p:blipFill>
        <p:spPr>
          <a:xfrm>
            <a:off x="30492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4724280" y="68580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Someone has said, “God is never late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He’s seldom early, ei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God’s clock is set to a different time zone than ours—an eternal time z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lide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295280" y="2819520"/>
            <a:ext cx="495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Master, we’ve worked h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all night and haven’t caught anything. But because you say s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485c"/>
                </a:solidFill>
                <a:latin typeface="Plantagenet Cherokee"/>
              </a:rPr>
              <a:t>I will let down the n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485c"/>
                </a:solidFill>
                <a:latin typeface="Plantagenet Cherokee"/>
              </a:rPr>
              <a:t>Luke 5:5 </a:t>
            </a:r>
            <a:r>
              <a:rPr b="1" i="1" lang="en-US" sz="1800" spc="-1" strike="noStrike">
                <a:solidFill>
                  <a:srgbClr val="02485c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0" y="1219320"/>
            <a:ext cx="91011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The </a:t>
            </a:r>
            <a:r>
              <a:rPr b="1" i="1" lang="en-US" sz="3200" spc="-1" strike="noStrike">
                <a:solidFill>
                  <a:srgbClr val="04617b"/>
                </a:solidFill>
                <a:latin typeface="Plantagenet Cherokee"/>
              </a:rPr>
              <a:t>Woe</a:t>
            </a: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 and </a:t>
            </a:r>
            <a:r>
              <a:rPr b="1" i="1" lang="en-US" sz="3200" spc="-1" strike="noStrike">
                <a:solidFill>
                  <a:srgbClr val="04617b"/>
                </a:solidFill>
                <a:latin typeface="Plantagenet Cherokee"/>
              </a:rPr>
              <a:t>Wow</a:t>
            </a: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 of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lide 4.jpg"/>
          <p:cNvPicPr/>
          <p:nvPr/>
        </p:nvPicPr>
        <p:blipFill>
          <a:blip r:embed="rId1"/>
          <a:stretch/>
        </p:blipFill>
        <p:spPr>
          <a:xfrm>
            <a:off x="556272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228600" y="914400"/>
            <a:ext cx="495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here is God calling you to venture into the deep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here is he inviting you to experience the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woe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your own condition so that you might know  the </a:t>
            </a:r>
            <a:r>
              <a:rPr b="1" i="1" lang="en-US" sz="2800" spc="-1" strike="noStrike">
                <a:solidFill>
                  <a:srgbClr val="ffffff"/>
                </a:solidFill>
                <a:latin typeface="Plantagenet Cherokee"/>
              </a:rPr>
              <a:t>wow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 of his wonderful gr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lid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4952880" y="1981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0" y="533520"/>
            <a:ext cx="9144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Plantagenet Cherokee"/>
              </a:rPr>
              <a:t>No Strings Atta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4495680" y="3657600"/>
            <a:ext cx="39625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“</a:t>
            </a:r>
            <a:r>
              <a:rPr b="1" i="1" lang="en-US" sz="2400" spc="-1" strike="noStrike">
                <a:solidFill>
                  <a:srgbClr val="04617b"/>
                </a:solidFill>
                <a:latin typeface="Plantagenet Cherokee"/>
              </a:rPr>
              <a:t>Good teacher,” he asked, “what must I do to inherit eternal life?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Plantagenet Cherokee"/>
              </a:rPr>
              <a:t>Mark 10:17 </a:t>
            </a:r>
            <a:r>
              <a:rPr b="1" i="1" lang="en-US" sz="1800" spc="-1" strike="noStrike">
                <a:solidFill>
                  <a:srgbClr val="04617b"/>
                </a:solidFill>
                <a:latin typeface="Plantagenet Cherokee"/>
              </a:rPr>
              <a:t>NIV</a:t>
            </a:r>
            <a:r>
              <a:rPr b="1" i="1" lang="en-US" sz="2000" spc="-1" strike="noStrike" baseline="30000">
                <a:solidFill>
                  <a:srgbClr val="02485c"/>
                </a:solidFill>
                <a:latin typeface="Plantagenet Cherokee"/>
              </a:rPr>
              <a:t> 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lide 4.jpg"/>
          <p:cNvPicPr/>
          <p:nvPr/>
        </p:nvPicPr>
        <p:blipFill>
          <a:blip r:embed="rId1"/>
          <a:stretch/>
        </p:blipFill>
        <p:spPr>
          <a:xfrm>
            <a:off x="556272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52280" y="1447920"/>
            <a:ext cx="5181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Week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</a:rPr>
              <a:t>The young man’s fla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  <a:ea typeface="Arial"/>
              </a:rPr>
              <a:t>His focus on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lantagenet Cherokee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lantagenet Cherokee"/>
                <a:ea typeface="Arial"/>
              </a:rPr>
              <a:t>His focus on his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1:27:53Z</dcterms:created>
  <dc:creator>Jane</dc:creator>
  <dc:description/>
  <dc:language>en-US</dc:language>
  <cp:lastModifiedBy> </cp:lastModifiedBy>
  <dcterms:modified xsi:type="dcterms:W3CDTF">2010-01-04T17:24:33Z</dcterms:modified>
  <cp:revision>45</cp:revision>
  <dc:subject/>
  <dc:title>Slide 1</dc:title>
</cp:coreProperties>
</file>