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O%20Seigneur%20dans%20le%20soir.wav" ContentType="audio/x-wav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F5A-6EC8-4DD8-91B4-89C2D45C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836-75E3-415E-9B70-087C0EB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89F-B192-433D-B2DB-431C2874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E4D-418C-4FE0-8715-27930DE7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968-34B8-409D-B114-4689633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F05-F25E-4F7F-AFE5-40C9D158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571-9181-4C97-BB2D-B61192EC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F89-81D4-425B-9892-06C9A4A3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AE1-B2A9-4200-8F5A-8E0DA63A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F78-FC57-4C5B-8CE5-4A5FC16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CA2-8179-47BA-81AF-1B4759C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D62-CDBF-4299-A1DD-139B737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C79-A371-49CA-928A-979965A8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O%20Seigneur%20dans%20le%20soi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6686640"/>
            <a:ext cx="20952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0520" y="5589720"/>
            <a:ext cx="593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66"/>
                </a:solidFill>
                <a:latin typeface="Lucida Calligraphy"/>
              </a:rPr>
              <a:t>Een Oosterse wijze leermeester ging e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66"/>
                </a:solidFill>
                <a:latin typeface="Lucida Calligraphy"/>
              </a:rPr>
              <a:t>met 7 leerlingen  een ochtendwan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66"/>
                </a:solidFill>
                <a:latin typeface="Lucida Calligraphy"/>
              </a:rPr>
              <a:t>maken terwijl de dauw nog over het land 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Lucida Calligraphy"/>
              </a:rPr>
              <a:t>Zeven kleur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  <p:sndAc>
      <p:stSnd>
        <p:snd r:embed="rId3" name="O%20Seigneur%20dans%20le%20so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2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2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25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71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325080" cy="686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0640" y="2781360"/>
            <a:ext cx="476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U heeft alle waarheden nodi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want allen tezamen v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zij het werkelijk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van het licht als gehe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de volle waar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6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51680" y="115920"/>
            <a:ext cx="538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Tot gij zelf één van de groten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geworden en de zeven kleure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één kunt waarnemen, zal i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afhankelijk van zijn situatie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ander standpunt innemen e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waarheid op een andere ma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z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54520" y="374760"/>
            <a:ext cx="456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Wees daarom niet al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tolerant, want dat is sle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het dulden van ande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mening, maar wees zelfs bl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dat er andere menin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83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26360" y="486900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e6cd"/>
                </a:solidFill>
                <a:latin typeface="Lucida Calligraphy"/>
              </a:rPr>
              <a:t>Zolang gij zelf nog niet het volle licht kunt zi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e6cd"/>
                </a:solidFill>
                <a:latin typeface="Lucida Calligraphy"/>
              </a:rPr>
              <a:t>hebt gij uw medemens als medeleerl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e6cd"/>
                </a:solidFill>
                <a:latin typeface="Lucida Calligraphy"/>
              </a:rPr>
              <a:t>om de volle waarheid te leren k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over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5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5360" y="115920"/>
            <a:ext cx="40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Na enige tijd brak de zon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en de dauwdrupp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schitterden dat het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lieve lust w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3737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Bij een grote dauwdruppel liet de Oude Meester 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houden.  Hij schaarde zijn leerlingen zo rondom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druppel dat de zon erop bleef schijnen en vroeg t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welke kleur de druppel h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5680" y="4437000"/>
            <a:ext cx="34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ff0000"/>
                </a:solidFill>
                <a:latin typeface="Lucida Calligraphy"/>
              </a:rPr>
              <a:t>Rood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eerste,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ff9900"/>
                </a:solidFill>
                <a:latin typeface="Lucida Calligraphy"/>
              </a:rPr>
              <a:t>oranje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tweede,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ffff00"/>
                </a:solidFill>
                <a:latin typeface="Lucida Calligraphy"/>
              </a:rPr>
              <a:t>geel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derde,</a:t>
            </a:r>
            <a:r>
              <a:rPr b="1" lang="nl-BE" sz="2000" spc="-1" strike="noStrike">
                <a:solidFill>
                  <a:srgbClr val="ffff0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de vierde zei “</a:t>
            </a:r>
            <a:r>
              <a:rPr b="1" lang="nl-BE" sz="2000" spc="-1" strike="noStrike">
                <a:solidFill>
                  <a:srgbClr val="6666ff"/>
                </a:solidFill>
                <a:latin typeface="Lucida Calligraphy"/>
              </a:rPr>
              <a:t>blauw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nee “</a:t>
            </a:r>
            <a:r>
              <a:rPr b="1" lang="nl-BE" sz="2000" spc="-1" strike="noStrike">
                <a:solidFill>
                  <a:srgbClr val="333399"/>
                </a:solidFill>
                <a:latin typeface="Lucida Calligraphy"/>
              </a:rPr>
              <a:t>indigo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vijfde,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de zesde zei</a:t>
            </a:r>
            <a:r>
              <a:rPr b="1" lang="nl-BE" sz="2000" spc="-1" strike="noStrike">
                <a:solidFill>
                  <a:srgbClr val="99cc00"/>
                </a:solidFill>
                <a:latin typeface="Lucida Calligraphy"/>
              </a:rPr>
              <a:t> 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99cc00"/>
                </a:solidFill>
                <a:latin typeface="Lucida Calligraphy"/>
              </a:rPr>
              <a:t>groen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en de zevende zei “</a:t>
            </a:r>
            <a:r>
              <a:rPr b="1" lang="nl-BE" sz="2000" spc="-1" strike="noStrike">
                <a:solidFill>
                  <a:srgbClr val="9900cc"/>
                </a:solidFill>
                <a:latin typeface="Lucida Calligraphy"/>
              </a:rPr>
              <a:t>violet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11880" y="5084640"/>
            <a:ext cx="507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Ze stonden verbaasd ov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verschillen en omdat ze 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allen zeker van waren ontst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er bijna ruz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1560" y="260280"/>
            <a:ext cx="848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Toen liet de oude Meester hun enige keren van pla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wisselen en heel langzaam drong het tot hen door 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zij, ondanks de verschillen van hun waarneming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toch allemaal de waarheid hadden gesproken.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5840" y="4797360"/>
            <a:ext cx="839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Nadat zo enige tijd verstreken was, liet de o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Meester hun weer hun oorspronkelijke pla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innemen.  Maar omdat in die tijd de zon w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gedraaid was, kaatsten nu weer andere kleuren te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vanaf de grote dauwdrup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96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72240" y="115920"/>
            <a:ext cx="57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En de grote Meester spr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hoe u de waarheid ziet, hangt af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de plaats en de tijd die u in 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leven inneemt, zoals u zo-eve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deel van het licht hebt gevon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dat voor de volle waarheid aanz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8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520" y="189000"/>
            <a:ext cx="82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b88800"/>
                </a:solidFill>
                <a:latin typeface="Lucida Calligraphy"/>
              </a:rPr>
              <a:t>Laat uw medemensen in volle vrijheid hun eigen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b88800"/>
                </a:solidFill>
                <a:latin typeface="Lucida Calligraphy"/>
              </a:rPr>
              <a:t>bewandelen, hun eigen plaats innemen en hun 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b88800"/>
                </a:solidFill>
                <a:latin typeface="Lucida Calligraphy"/>
              </a:rPr>
              <a:t>deel van het licht waarne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0:03:34Z</dcterms:created>
  <dc:creator>Vi</dc:creator>
  <dc:description>Bewerkt door HBY</dc:description>
  <dc:language>en-US</dc:language>
  <cp:lastModifiedBy>Smets</cp:lastModifiedBy>
  <dcterms:modified xsi:type="dcterms:W3CDTF">2008-10-11T05:21:59Z</dcterms:modified>
  <cp:revision>7</cp:revision>
  <dc:subject>Wijsheid </dc:subject>
  <dc:title>Zevenkleuren</dc:title>
</cp:coreProperties>
</file>