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17.jpeg" ContentType="image/jpeg"/>
  <Override PartName="/ppt/media/image16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5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3C8-F6D7-4883-BE20-6F40BA80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678-C8C2-41FD-863E-A312152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B1F-2BDD-482F-ADB1-6B8A8D16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407-3258-4844-9C68-7BDAA903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4435-E2B6-422A-8DB3-AF36088C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15E-A602-43E6-9424-684BF9D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40E-31CD-4880-8D07-051005FC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5F66-111C-4006-8310-D3424458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FEC-F2BA-4C17-947F-64B7B7E8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29B5-5DF1-4BC6-969D-AA9777EA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4F29-79C0-4B62-803B-510ABD0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066-DE14-4AC5-BAB3-C55ADFD5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3D3C-6BF9-42C5-9AED-B443970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3DC8-3186-482D-B9DE-EC6D4FB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656-F849-4055-AB0C-C71787E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98AF-264F-4E76-823B-A199A181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11F9-A2EF-47A8-AD7F-D80C32C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C64-CFB3-47E1-95E9-01D8CDB0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9CF-02BA-4A2E-91D6-5D877C6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4D7-BD1C-44D1-ACBE-20F61C43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D4B-B387-4CFA-AC57-ED9C08E9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0CF-CD87-461C-B571-7CFA586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A38-B525-44E8-8DDF-2CF2CB5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F30-EA56-415F-A8FA-6993194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CD61-31EC-49D9-A84B-5FB40713F8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04D4-2892-4D66-B93D-65F92D8FC4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Fisiología de la Contracción Muscul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Rigor mor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Maduración de car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Tende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561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430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19280" y="121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21428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1106640"/>
            <a:ext cx="619128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89064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22208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913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620640"/>
            <a:ext cx="7777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Arial"/>
              </a:rPr>
              <a:t>Durante el postmortem, en el músculo,  se observa una serie de fenómenos que determinaran su transformación en car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Arial"/>
              </a:rPr>
              <a:t>Para entender estos procesos es importante recordar los aspectos básicos de la fisiología muscul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365040"/>
            <a:ext cx="770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Microfotografía electrónica del músculo esquelético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1549440"/>
            <a:ext cx="64767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569880"/>
            <a:ext cx="746748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673200"/>
            <a:ext cx="755964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56520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2160" y="2357280"/>
            <a:ext cx="6619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1386000"/>
            <a:ext cx="4572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9:29:55Z</dcterms:created>
  <dc:creator>Fernando Gonzalez</dc:creator>
  <dc:description/>
  <dc:language>en-US</dc:language>
  <cp:lastModifiedBy>Fernando Gonzalez</cp:lastModifiedBy>
  <dcterms:modified xsi:type="dcterms:W3CDTF">2006-05-02T22:30:57Z</dcterms:modified>
  <cp:revision>7</cp:revision>
  <dc:subject/>
  <dc:title>Fisiología de la Contracción Muscular</dc:title>
</cp:coreProperties>
</file>