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17.jpeg" ContentType="image/jpeg"/>
  <Override PartName="/ppt/media/image16.gif" ContentType="image/gif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15.gif" ContentType="image/gi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DB0-FEB7-42A1-8B2B-E1099B6F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3FB-4242-4FDB-8FA4-3A72C064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53D-372A-48AA-BBA7-5142DEDC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51F-F8CB-4805-A9A6-87B063FB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18D2-9936-40ED-90E2-D2DFE619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8AED-6D6A-4255-A3E7-4F260105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C56E-465F-412F-8992-DFDE9663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7305-90AA-414A-9EF6-A29129F1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0706-9BCC-451D-A7E2-572B1071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99C8-8D25-4009-B9C5-4BD87B78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87B2-78CF-4F31-B798-F825CF6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B2F-5708-4AA1-9C98-52E1D3E0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03C9-8366-4964-A135-D96A6878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D78C-86A3-4E3D-AE14-94752DAF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5182-42AF-43D6-96D3-DE396759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85FB-E06B-4511-A118-78669975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6C91-470C-427B-92BD-0563A768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9DC-B530-4ECE-86C9-BC903F2C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0D7-A092-40AB-BEC7-A9ED5E35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546-0F31-4615-8A6B-3D275E3F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8D3-7435-4C32-8055-CF7C3632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89F-BB17-48B0-AD07-572CF5D8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3E1-75C8-472E-8089-0290111B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A26-4DFA-43EE-8C66-76D426AB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48FC-6ECF-489E-9B69-F9503307F3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40E0-06D8-4521-9E9C-91813CF475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Fisiología de la Contracción Muscul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Rigor mor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Maduración de car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Tender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561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8000" y="1430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19280" y="121428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1214280"/>
            <a:ext cx="5761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4087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1106640"/>
            <a:ext cx="619128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890640"/>
            <a:ext cx="6769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708360" y="1413000"/>
            <a:ext cx="22208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7913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620640"/>
            <a:ext cx="7777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Arial"/>
              </a:rPr>
              <a:t>Durante el postmortem, en el músculo,  se observa una serie de fenómenos que determinaran su transformación en car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Arial"/>
              </a:rPr>
              <a:t>Para entender estos procesos es importante recordar los aspectos básicos de la fisiología muscul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5640" y="365040"/>
            <a:ext cx="770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2b2b2"/>
                </a:solidFill>
                <a:latin typeface="Arial"/>
              </a:rPr>
              <a:t>Microfotografía electrónica del músculo esquelético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19320" y="1549440"/>
            <a:ext cx="647676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569880"/>
            <a:ext cx="746748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673200"/>
            <a:ext cx="755964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56520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62160" y="2357280"/>
            <a:ext cx="66196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4600" y="1386000"/>
            <a:ext cx="4572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9:29:55Z</dcterms:created>
  <dc:creator>Fernando Gonzalez</dc:creator>
  <dc:description/>
  <dc:language>en-US</dc:language>
  <cp:lastModifiedBy>Fernando Gonzalez</cp:lastModifiedBy>
  <dcterms:modified xsi:type="dcterms:W3CDTF">2006-05-02T22:30:57Z</dcterms:modified>
  <cp:revision>7</cp:revision>
  <dc:subject/>
  <dc:title>Fisiología de la Contracción Muscular</dc:title>
</cp:coreProperties>
</file>