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273-5210-4816-9192-F5ACCED7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E39-339E-40A9-B123-D381F70F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3EE-9C97-422B-A192-66D80709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098-009B-4144-AF28-E7ECF270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28CB-4C1C-4DC7-A58C-CF9CFE4F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D913-8B09-4CD0-83BB-4FF4685F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3CE1-2AFD-4FE6-ABD0-128D9847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AAF7-3771-427C-943B-24E39FEE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F3B7-C875-4BF5-868E-93B6D824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9D43-4F43-4F61-B3B3-BB573389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57ED-7EED-4DF4-8652-D71312A5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C10-E0F9-4437-8205-922808B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6814-FABE-4532-B525-E43F410C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B022-6AB4-499F-AD11-6AA6F903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23B7-9103-4CF9-9506-C50453C1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1E20-C6DC-43BB-B657-8669A4F0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7E45-1956-4711-9500-DEAC69E8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716-B10E-4F77-90FF-C7BE2949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324-C13F-46A1-90D5-B5930ABD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CEE-4682-4D40-B3F0-0E7223DF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8A4-18D7-4D4B-B574-740B4245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296-3EF2-43DA-BFB3-3EB6137F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76D-AA29-4F31-B348-B4BDED4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CDB-865F-48FA-891F-1AC2F8E5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1CC3-9375-4991-BACF-E6580E958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8078-F1FA-44AA-B7E2-D0FF4A5CF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ahoma"/>
              </a:rPr>
              <a:t>IBU  DENGAN  PATOLOGI  KEHAMILAN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lainan yang berhubungan langsung dengan kehami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lainan yang tidak berhubungan langsung dengan kehami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ahoma"/>
              </a:rPr>
              <a:t>Obat untuk mengatasi kejang 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LFAS MAGNESIKUS (JIKA SYARAT PEMBERIAN (+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gSO4 20% 20cc (4gram) IV pelan-pela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mudian MgSO4  40% 20cc (5gram)  IM pada glut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la masih kejang : 20 menit kemudian MgSO4  20%  IV dapat diulang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la dalam dalam 30 menit masih kejang, diberikan Dilantin (Diphenylhidantoin) 100 m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V  pelan-pel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erian MgSO4  IM dapat diulangi tiap 4 jam sampai 24 jam bebas keja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AZEP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zepam 20mg IV pelan-pelan, diikuti dengan 10mg dalam drip D5% 500cc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tetes/men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la masih kejang pemberian IV dapat diulang dalam ½ jam 10mg Diazepa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erian dalam 24 jam tidak melebihi 10 – 120 m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ahoma"/>
              </a:rPr>
              <a:t>ABOR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CAM – MACAM  ABOR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RTUS IMI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caman Abor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 “ Bed rest Total ” (istirahat berbar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ativa (penenang) : Luminal 3x30mg/Valium 3x2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F : 600-1000mg/h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RTUS INSIP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rtus sedang berlangsu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 Infus D5% 500cc + 10 U Oktsito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ulai 8tetes / menit  dinaikan s / d terjadi kontraksi rahim + abortus kompl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RTUS TIDAK  KOMPL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bagai hasil konsepsi telah keluar, serviks terbu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&gt;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y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 atasi syok , kuretase, uterotonika post kuretase.tranfusi (bila perlu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RTUS INFEKSIO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rtai infeksi genitali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siko sepsis tinggi sek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ng pada abortus tidak kompli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am, nadi cep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berba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tekan rah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mlah leco lebih bany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Cairan intra vena + antibiotik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juk 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uretase (setelah keadaan stabil)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SSED  ABOR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in meninggal sebelum UK 20 mgg, tidak dikeluarkan selama 6-8 mg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(-) , serviks tertutup, Tinggi Fundus Uteri (TFU) &lt; 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 RS dilatasi + kuret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iko gangguan pembekuan darah / Desseminated Intravascular Coagulation (DI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KEHAMILAN  EKTOPIK  TERGANGGU (KET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 telur yang dibuahi, berimplitasi + tumbuh diluar Endometrium Cavum Uteri, sebagian terjadi di tub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bortus tuba, ruptur tub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♀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a reproduksi menikah / tidak menika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lambat haid / tid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perut bawa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wayat pingsan / tid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cat, tampak sakit, tanda syok, nyeri goyang servi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  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parotom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asi Sy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MOLA  HIDATIDOS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hamilan abnormal janin (-), perubahan hidropik vili korial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agnosi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nda–tanda kehamilan (+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ar uterus &gt; UK , Balotemen (-) , DJJ (-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lembung – gelembung  mola ( Dx. Past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yulit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rotoksikosis, Preeklam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 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asi syok, trasfusi bila Hb &lt; 8g%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retase, uterotonika post kuretas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la Tirotoksikosis / PE(+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nsul P.Dala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amatan lanjut selama 1-2 tah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rasepsi Kond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PLACENTA  PREVI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senta di segmen bawah rahim (SBR) dapat menutupi sebagian / seluruh pembukaan jalan lah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agnosi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segera terjadi pada Trimester II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npa alasan, tanpa nye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makin banya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y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ah merah s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ian bawah belum masuk PAP, kelainan letak, janin hid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 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perasi / SC Ci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asi syok / pre syok, persiapkan ruj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G : plas letak rendah / marginalis : pervagin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SOLUSIO  PLASENT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: lepasnya plasenta yang letaknya normal yaitu di Korpus, sebelum janin lah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agnosi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ng terjadi pada Trimester II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/ sakit perut terus mener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banyak / sedikit, keadaan umum tidak sesuai dengan perdarahan yang keluar.  (perdarahan sedikit, tetapi penderita syo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ah merah kehitam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him tegang, umumnya DJJ (-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 R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siko perdarahan banyak, syok, atonia Uteri, kelainan pembekuan darah, oligu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la yakin dapat lahir pervaginam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cah KK, Infus Oksitosin 5 U dalam 500 ml D5% mulai 8 tetes/menit.  Bila 6 jam belum lahi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 Puskesmas Atasi Syok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persiapkan ruj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RETENSIO  PLASENT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senta belum dilahirkan setelah ½ jam janin lah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senta Inkarserata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senta sudah lepas dari dinding rahim tetap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halang kontriksi dibawah rahi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asi sy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retase (bila plasenta akre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fusi (bila perl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SISA PLASENT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pat perdarahan Post Partum (dini / lamb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dari rongga rahim,  kontraksi uterus baik (din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berulang / terus, uterus subinvolusi (lamba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ret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erotonika post kuret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HIPERMESIS  GRAVIDARUM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al – muntah yang berat, pekerjaan sehari-hari terganggu, keadaan umum menjadi bur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ebab : belum diketahui pa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Predisposisi : Primigravida, mola hidatidosa, hamil g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lain 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organik : Vili koriali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irkulasi ib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ergi : respon jaringan ibu terhadap an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psikologik : takut, konflik mental  d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IBU HAMIL DENGAN KELAINAN YANG TIDAK BERHUBUNGAN LANGSUNG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BU  HAMIL  DENGAN  PENYAKIT  JAN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akit jantung menjadi lebi berat karena kehamil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pat terjadi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kompensasi Kord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Gagal jantu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at-saat berbahaya bagi penderita adalah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hamilan 32-36 minggu Hiperpolemia mencapai punc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us kala II , bila ibu mengej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a post partum , karena setelah lahir plasent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rah kembali ke sirkulasi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lasifikas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anpa pembatasan kegiatan fisik dan tanpa gej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I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edikit pembatasan kegiataan fisik, istira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anpa gejala, kegiatan fisik bias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ejala (+) (kelelahan, berdebar, sesak nafas, nyeri d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I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banyak pembatasan fisik, istira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anpa gejala; kegiatan fisik ring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ejala (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idak mampu melakukan kegiatan fisik tanpa keluhan, istirahat / kegiatan fisik sangat ring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ejala (+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obatan tambahan tidak 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obatan tambahan tidak ada, hindari aktifi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I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wat RS, (mulai usia kehamilan 28 mgg) diuretik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wat RS selama ham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 &amp; II dapat atau teruskan sampai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TER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ukup bulan), persalinan pervaginam, pengawasan ketat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ehamilan, persalinan, nif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nosi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b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kematian ibu 1-5%, penyakit berat 15% dan kelas penyebab kematian : Edema Paru Aku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an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IUGR, gawat janin, kematian janin intra ute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IBU HAMIL DENGAN PENYAKIT DIABETES MELITUS (DM)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kehamilan pada D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akit menjadi lebih berat dan sulit dikendalikan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ngobatan lebih sulit.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DM pada kehami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rtus / partus prematur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eklams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dramn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inan letak jan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isiensi placenta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persalinan pada DM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raksi otot rahim dan mengej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nggunaan glukosa lebih banya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ipoglikem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DM pada persalin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ersia uteri / Atonia ute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osia bahu karena anak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hir ma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alinan tindakan : S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dah Infeksi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matian ibu lebih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Nifas pada DM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ktasi penggunaan Karbohidrat/Glukosa berlebih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DM pada Nifa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ksi nifas meningkat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sis meningkat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embuhan luka lamb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107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DM pada bay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matian hasil konsepsi pada hamil mud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bort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cat bawa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UGR (Intra Uterine Growth Retardation) / PJ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in besar (makrosom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matian janin dalam rahim / IUF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matian Neona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inan Neurologik &amp; Psikologik dikemudian h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PENGELOLAA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anganan Med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lori 1200-1800/hr (30-40 kalori/kg BB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40%, pembatasan ga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in 65-80 gr/hr (2gr/kg B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mak 45-60 gr/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u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- dosis dan dosis sebelum hamil (sesuai keperlu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 I : dosis menurun , Tr II/III : dosis meningka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anganan Obstetr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 terkendali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amil Aterm, persalinan spontan pada UK 40mg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 dengan Insu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akhiri pad UK : 36-38 mgg, persalinan buatan : Induksi, pervaginam atau Seksio Caesaria (S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41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nosis Ibu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kup baik bila dideteksi dini, pengelolaan kehamilan  &amp;  persalinan oleh dokter Obsg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nosis Ana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bih buruk dipengaruhi oleh : berat lamanya penyakit , Insufisiensi placenta, prematuritas, gawat nafas, cacat bawaan, komplikasi persalin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IBU HAMIL DENGAN TUBERKULOSIS PAR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pat timbul masalah pada ibu, janin dan masyaraka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hamilan tidak banyak berpengaruh terhadap penyebaran / cepatnya penjalaran penyaki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angan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BC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wat RS untuk diagnosis dan eduka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lu pengobatan lama, tekun dan terat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sa sembuh bila patu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ndari penularan : tutup mulut / hidung bila batuk, bersin, terta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obatan : kemoterap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BC Non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idak perlu pengobat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salin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BC Non Aktif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rsalinan spont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BC Akti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ses persalinan di R.Isolasi, mas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gah perdarahan post partum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erotonika, Aktif Kala I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at yang dapat digunak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oniasid (INH) : dosis 300mg/hr.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mplikasi pada hat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riksa fungsi hati terat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ambutol : dosis 15-20mg/kg/h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mplikasi Neuritis retrobulb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ptomisin : dosis 1gr/hr.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 I. Tr. 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uli bawaan (ototksik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fampisin : dosis 600mg/h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otensial Teratogenik. Tidak dianjurkan pada Tr.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Gejala dan tanda (menurut berat ringannya penyakit)</a:t>
            </a: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NGKAT  I (RINGAN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mah, nafsu makan (-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B menuru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Epigastriu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di meningkat (100 x/m), Tekanan Darah (TD) sistolik menu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gor kulit menurun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dah kering, mata ceku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057400" y="2590920"/>
            <a:ext cx="48006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rima kasih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NGKAT II (SEDANG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bih lemah dan Apat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a ikteris, suhu meningkat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B, TD, Produksi urine menurun , Defekasi (-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u Aseton (+) (pada nafas &amp; Ur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NGKAT  III (BERAT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bih para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nol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efalopati wernicke (+)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istagmus, Diplopia, perubahan men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at-obatan Sedativa, anti histamin, anti emetik, B1, B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olasi : ruang tenang, catat input / output cair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iksa produksi urine, TD, suhu, nadi (bila 24 jam membaik terapi diberikan per Or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api Psikologik : hilangkan masalah dan konflik, rasa tak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entian kehamil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ila keadaan memburuk (medik dan Psikiatrik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rtus Terapeutik (?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ahoma"/>
              </a:rPr>
              <a:t>PREEKLAMSIA – EKLAMSIA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: Sekelompok penyulit yang timbul pada usia kehamilan lebih dari 20 minggu, persalinan dan nifas ditandai dengan Hipertensi dan Edema / Proteinuri atau keduany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Preeklamsia / PE : Rin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PE Berat =PE ringan + gejala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D sistolik lebih 160, Diastolik lebih 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inuria &gt; 5mg/lt, Oliguria &lt; 400 ml/24 j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Epigastrium dengan Vis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kepala Hellp sindrom, Edema pa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EKLAMSIA : PE + kejang /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PENGELOLAAN 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 Ring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wat jalan, “Bedrest”  Diet rendah Karbo Hidrat, lemak, garam dan tinggi Prot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ativa : Valium  3x2 mg / hari atau Luminal 3x30 mg / h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minggu tidak membai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RS (rawat ina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PE Berat   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wai Inap (Ruang Isolas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us D5% - RL – D5% - D5% (2000cc / 24 ja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 kejang : Diazepam, Sulfas Magnisik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 Hipertensi : Alfa Metil Dopa 3x250mg/hari atau  Klonidin 2x150mg/h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yarat pemberian Sulfas Magnesikus (MgSO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k tendo lutut (+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kwensi pernafasan &gt; 16x / men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uresis : &gt; 100 ml / 4 j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sedia Anti Dotum : Glukonas Kalsik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EKLAMSI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awatan terhadap serangan kejang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ang infus D 5%, kateter metet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 liter / men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ang sudip lidah (“Tongue Spatle”) di mul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pala direndahkan , Orofaring dibersihk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ksasi badan pada tempat tidur, hindari aspira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wasi ketat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nda vital dan keadaan um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k tendo lut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uresis (produksi urin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mlah kejang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sadaran (Glasgow Coma Scale/GC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io</cp:lastModifiedBy>
  <dcterms:modified xsi:type="dcterms:W3CDTF">2007-04-24T06:39:08Z</dcterms:modified>
  <cp:revision>6</cp:revision>
  <dc:subject/>
  <dc:title>PowerPoint Presentation</dc:title>
</cp:coreProperties>
</file>