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246-155A-41DA-AFC5-2D322CC2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D71-50F8-4E13-A0EC-AAD71AEA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4CB-C831-4D6E-82BD-6029223B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414-CF82-483A-8629-2968AD94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C34-1593-4313-98A4-B0AFDF3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453-16F1-430C-9DD2-8D750E06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D1D-DE8F-4527-B7E4-06F352A1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475-2C88-4407-9121-F43C2231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7DF-61A9-4709-B29C-A47B031E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8FB-2EA5-4415-8DB5-B5936D98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8D4-DAB2-4818-BE10-249094AE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4C8-AB63-404F-9688-17A746E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8D84-DE67-4FEF-8DBC-BBA8394AB498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160" y="477036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C7C1-2E36-4C54-9719-2D2C9CA1BA7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335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50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53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335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61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64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67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70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335-후렴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74" name="Picture 4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77" name="Picture 7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80" name="Picture 10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83" name="Picture 13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335-후렴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87" name="Picture 4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90" name="Picture 7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93" name="Picture 10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96" name="Picture 13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335-4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20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20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20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20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335-4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21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21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21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22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335-후렴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226" name="Picture 4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229" name="Picture 7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232" name="Picture 10" descr="button21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235" name="Picture 13" descr="button21"/>
            <p:cNvPicPr/>
            <p:nvPr/>
          </p:nvPicPr>
          <p:blipFill>
            <a:blip r:embed="rId6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335-후렴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239" name="Picture 4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242" name="Picture 7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245" name="Picture 10" descr="button21"/>
            <p:cNvPicPr/>
            <p:nvPr/>
          </p:nvPicPr>
          <p:blipFill>
            <a:blip r:embed="rId4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248" name="Picture 13" descr="button21"/>
            <p:cNvPicPr/>
            <p:nvPr/>
          </p:nvPicPr>
          <p:blipFill>
            <a:blip r:embed="rId5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335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7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0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63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66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335-후렴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7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7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335-후렴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8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9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35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6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9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02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05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335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9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2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15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18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335-후렴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2" name="Picture 4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5" name="Picture 7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28" name="Picture 10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31" name="Picture 13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335-후렴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35" name="Picture 4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38" name="Picture 7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41" name="Picture 10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44" name="Picture 13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335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48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51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54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57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3:50:46Z</dcterms:created>
  <dc:creator>최봉수</dc:creator>
  <dc:description/>
  <dc:language>en-US</dc:language>
  <cp:lastModifiedBy>맛있다 군만두</cp:lastModifiedBy>
  <dcterms:modified xsi:type="dcterms:W3CDTF">2023-07-13T09:03:25Z</dcterms:modified>
  <cp:revision>4</cp:revision>
  <dc:subject/>
  <dc:title>슬라이드 1</dc:title>
</cp:coreProperties>
</file>