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D4B-9FF0-43AF-808E-87CC427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65B-ED65-49E3-A1D2-6D9417E3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AA7-3773-4EBA-BEC6-C632413B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3F2-FBA2-4D42-A410-0B4EC61F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6B8-DB7A-4E15-A08F-EBA6045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18F-032A-4B39-A2A4-83F7B36C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AAB-ED78-4F22-9257-9F9D686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8A2-CFB6-47C7-B050-6F5212D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784-7DD2-4C6A-9B23-BB8860A0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487-FBA1-40B2-9057-989831A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5AD-E746-4FA3-B962-954A00D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FEB-30EE-4340-A99F-6722E23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1A1D-AB81-4F00-BFEF-7FB5DFFF8A93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160" y="477036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17A-B768-46D0-B001-01C5DCFADE6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335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335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61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64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67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70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74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77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80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83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87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90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93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96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335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0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0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0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0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335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1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1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1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2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26" name="Picture 4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29" name="Picture 7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32" name="Picture 10" descr="button21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35" name="Picture 13" descr="button21"/>
            <p:cNvPicPr/>
            <p:nvPr/>
          </p:nvPicPr>
          <p:blipFill>
            <a:blip r:embed="rId6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239" name="Picture 4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242" name="Picture 7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245" name="Picture 10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248" name="Picture 13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35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5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35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35-후렴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35-후렴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4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7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0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3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335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48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51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54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57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50:46Z</dcterms:created>
  <dc:creator>최봉수</dc:creator>
  <dc:description/>
  <dc:language>en-US</dc:language>
  <cp:lastModifiedBy>맛있다 군만두</cp:lastModifiedBy>
  <dcterms:modified xsi:type="dcterms:W3CDTF">2023-07-13T09:03:25Z</dcterms:modified>
  <cp:revision>4</cp:revision>
  <dc:subject/>
  <dc:title>슬라이드 1</dc:title>
</cp:coreProperties>
</file>