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francis%20goya%20&amp;%20georges%20zamfir%20-%20melodi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1F2-CE4A-45AD-96C8-21BF9329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FA6-0186-4C98-96B2-B1F48A50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749-EFBC-4D97-896F-911337BE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DAF-2983-465E-8F85-CD6E1FDD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411-96B9-4D32-9958-1990B1C0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A6C-06F1-4C4F-91A3-A64FCD5B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C9D-DC28-453B-B756-808B773C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38F-55E8-4069-BBE5-59887FF9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5C8-24C0-43B7-98A4-01C0ECD4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A4D-A906-4E4F-97B1-E64A219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C60-0E34-4B86-B80F-E1614504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8E9-19B0-481E-9AA3-5AB180D2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AEA6-3671-4725-BEBE-C62215256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rancis%20goya%20&amp;%20georges%20zamfir%20-%20melodia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Comic Sans MS"/>
              </a:rPr>
              <a:t>Mooi scheppingsverhaal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  <p:sndAc>
      <p:stSnd>
        <p:snd r:embed="rId2" name="francis%20goya%20&amp;%20georges%20zamfir%20-%20melodi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852280"/>
            <a:ext cx="8820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99"/>
                </a:solidFill>
                <a:latin typeface="Comic Sans MS"/>
              </a:rPr>
              <a:t>Toen God eenmaal de vrouw schiep was Hij al 6 dagen aan het overwerken.</a:t>
            </a:r>
            <a:br>
              <a:rPr sz="2000"/>
            </a:br>
            <a:r>
              <a:rPr b="0" lang="nl-NL" sz="2000" spc="-1" strike="noStrike">
                <a:solidFill>
                  <a:srgbClr val="000099"/>
                </a:solidFill>
                <a:latin typeface="Comic Sans MS"/>
              </a:rPr>
              <a:t>Er verscheen een engel en deze zei: "Waarom spendeert u zoveel tijd aan dit model?"</a:t>
            </a:r>
            <a:br>
              <a:rPr sz="2000"/>
            </a:br>
            <a:r>
              <a:rPr b="0" lang="nl-NL" sz="2000" spc="-1" strike="noStrike">
                <a:solidFill>
                  <a:srgbClr val="000099"/>
                </a:solidFill>
                <a:latin typeface="Comic Sans MS"/>
              </a:rPr>
              <a:t>En de Heer antwoordde: "Heb je al gezien aan welke voorwaarden ze moet voldoen?</a:t>
            </a:r>
            <a:br>
              <a:rPr sz="2000"/>
            </a:br>
            <a:r>
              <a:rPr b="0" lang="nl-NL" sz="2000" spc="-1" strike="noStrike">
                <a:solidFill>
                  <a:srgbClr val="000099"/>
                </a:solidFill>
                <a:latin typeface="Comic Sans MS"/>
              </a:rPr>
              <a:t>Ze moet helemaal te wassen zijn, 200 beweegbare delen hebben die allemaal te vervangen zijn, ze moet functioneren op cola light en kliekjes, een schoot hebben waar 4 kinderen op kunnen zitten, een kus die alles kan genezen, van een geschaafde knie tot een gebroken</a:t>
            </a:r>
            <a:br>
              <a:rPr sz="2000"/>
            </a:br>
            <a:r>
              <a:rPr b="0" lang="nl-NL" sz="2000" spc="-1" strike="noStrike">
                <a:solidFill>
                  <a:srgbClr val="000099"/>
                </a:solidFill>
                <a:latin typeface="Comic Sans MS"/>
              </a:rPr>
              <a:t>hart...</a:t>
            </a:r>
            <a:br>
              <a:rPr sz="20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4047840"/>
            <a:ext cx="8425080" cy="28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N ze mag maar 1 paar handen hebb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De engel was overweldigd door alle voorwaarden: "1 paar!" Niet te geloven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n dat is het standaard model? Dat is teveel werk voor 1 dag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eem op zijn minst morgen erbij om het af te maken." Maar dat gaat niet,“ protesteerde de Heer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Ik ben bijna zover; ik heb deze creatie die zo dicht bij mijn hart ligt, bijna afgero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32846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e geneest zichzelf al als ze ziek is EN ze werkt 18 uur op een dag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 De engel kwam dichterbij en raakte de vrouw aan. "Wat heeft U haar zacht gemaakt Heer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 Ze is zacht" zei de Heer, "maar ik heb haar ook heel hard gemaakt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Je hebt geen idee wat zij kan doormaken of voor elkaar kan krijg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 Kan ze ook nadenken?" vroeg de engel. De Heer antwoordde: "Ze kan niet alleen nadenken, ze is ook in staat om zaken te beredeneren en te onderhandelen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3328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oen viel de engel iets op, hij raakte de wang van de vrouw aa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Oeps, ik geloof dat deze lekt! Ik zei toch dat u er teveel instopte."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Dat is geen lekkage," corrigeerde de Heer "dat is een traan"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aar dient een traan voor?" vroeg de Engel. De Heer zei: "De traan is haar manier om uiting te geven aan haar vreugde, haar leed, haar pijn, haar teleurstellingen, haar liefde, haar eenzaamheid, haar droefheid en haar trots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781000"/>
            <a:ext cx="84978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e engel was onder de indruk. "U bent geniaal, Heer. U heeft aan alles gedach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e Vrouw is werkelijk ongelooflijk." En dat is ze!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Vrouwen hebben krachten die mannen doen verbazen. Zij doorstaan ontberingen en dragen lasten, maar houden vast aan geluk, liefde en vreugde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glimlachen wanneer ze willen schreeuwen. Ze zingen wanneer ze willen huilen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huilen als ze blij zijn en lachen als ze nerveus zijn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vechten voor datgene waar ze in geloven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Verzetten zich tegen onrechtvaardigheid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accepteren geen 'nee' als ze geloven dat er een betere oplossing is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nemen minder, opdat hun familie meer heef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begeleiden een bange vriend(in) naar de dokter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3068280"/>
            <a:ext cx="5903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Hun liefde is onvoorwaardelijk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huilen wanneer hun kinderen zichzelf overtreffen en juichen als hun vrienden in de prijzen vallen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zijn blij met het nieuws van een geboorte of huwelijk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Hun hart breekt als een vriend(in) sterf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betreuren het verlies van een familielid, maar blijven sterk wanneer ze denken dat er niet genoeg kracht over is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weten dat een knuffel en een kus kan helpen een gebroken hart te hele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336816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Vrouwen zijn er in alle maten, kleuren en vorm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e zullen rijden, vliegen, lopen, rennen of mailen om te laten zien hoeveel ze om je gev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et hart van de vrouw zorgt dat de aarde draait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ij brengen vreugde en hoop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ij bezitten compassie en ideal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ij ondersteunen familie en vriend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Vrouwen hebben essentie om dingen te zeggen en alles te gev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Stuur deze mail door naar je vriendinnen om ze eraan te herinneren hoe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antastisch ze zijn; want vrouwen hebben maar 1 fout: Ze vergeten nog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wel eens aan zichzelf te denk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22:08:34Z</dcterms:created>
  <dc:creator>patty</dc:creator>
  <dc:description/>
  <dc:language>en-US</dc:language>
  <cp:lastModifiedBy>Smets</cp:lastModifiedBy>
  <dcterms:modified xsi:type="dcterms:W3CDTF">2008-08-24T07:05:02Z</dcterms:modified>
  <cp:revision>13</cp:revision>
  <dc:subject/>
  <dc:title>Mooi scheppingsverhaal... </dc:title>
</cp:coreProperties>
</file>