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rancis%20goya%20&amp;%20georges%20zamfir%20-%20melodi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A44-A794-46BC-AB72-71E281F8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2E0-C593-4F41-8B20-BEC5855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0A5-E02D-4C5D-A2B4-39162D4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2C6-4CC5-4074-824F-6BBC931A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7AE-8154-4A41-BEA9-2602B9FD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565-A940-46C7-9FCB-FC2AEDB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49C-6EA3-4C7D-B1A9-22F041F5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61F-B900-4E12-A1C2-DA15256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7FD-4A42-4E85-BC37-E2BBFB4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54D-8340-4827-B69D-B4F1A20A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EC1-DAAA-4DF2-83E0-BFF45A2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E1B-BD04-4037-89E9-80FCF82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66C8-7AA2-4F55-8CA5-505BC359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rancis%20goya%20&amp;%20georges%20zamfir%20-%20melodi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Mooi scheppingsverhaal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  <p:sndAc>
      <p:stSnd>
        <p:snd r:embed="rId2" name="francis%20goya%20&amp;%20georges%20zamfir%20-%20melodi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852280"/>
            <a:ext cx="882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Toen God eenmaal de vrouw schiep was Hij al 6 dagen aan het overwerken.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Er verscheen een engel en deze zei: "Waarom spendeert u zoveel tijd aan dit model?"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En de Heer antwoordde: "Heb je al gezien aan welke voorwaarden ze moet voldoen?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Ze moet helemaal te wassen zijn, 200 beweegbare delen hebben die allemaal te vervangen zijn, ze moet functioneren op cola light en kliekjes, een schoot hebben waar 4 kinderen op kunnen zitten, een kus die alles kan genezen, van een geschaafde knie tot een gebroken</a:t>
            </a:r>
            <a:br>
              <a:rPr sz="2000"/>
            </a:br>
            <a:r>
              <a:rPr b="0" lang="nl-NL" sz="2000" spc="-1" strike="noStrike">
                <a:solidFill>
                  <a:srgbClr val="000099"/>
                </a:solidFill>
                <a:latin typeface="Comic Sans MS"/>
              </a:rPr>
              <a:t>hart...</a:t>
            </a:r>
            <a:br>
              <a:rPr sz="20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4047840"/>
            <a:ext cx="842508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 ze mag maar 1 paar handen hebb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De engel was overweldigd door alle voorwaarden: "1 paar!" Niet te geloven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 dat is het standaard model? Dat is teveel werk voor 1 dag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eem op zijn minst morgen erbij om het af te maken." Maar dat gaat niet,“ protesteerde de He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Ik ben bijna zover; ik heb deze creatie die zo dicht bij mijn hart ligt, bijna afger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e geneest zichzelf al als ze ziek is EN ze werkt 18 uur op een dag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De engel kwam dichterbij en raakte de vrouw aan. "Wat heeft U haar zacht gemaakt Heer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Ze is zacht" zei de Heer, "maar ik heb haar ook heel hard gemaak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Je hebt geen idee wat zij kan doormaken of voor elkaar kan krijg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 Kan ze ook nadenken?" vroeg de engel. De Heer antwoordde: "Ze kan niet alleen nadenken, ze is ook in staat om zaken te beredeneren en te onderhandelen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332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oen viel de engel iets op, hij raakte de wang van de vrouw aa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Oeps, ik geloof dat deze lekt! Ik zei toch dat u er teveel instopte."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"Dat is geen lekkage," corrigeerde de Heer "dat is een traan"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aar dient een traan voor?" vroeg de Engel. De Heer zei: "De traan is haar manier om uiting te geven aan haar vreugde, haar leed, haar pijn, haar teleurstellingen, haar liefde, haar eenzaamheid, haar droefheid en haar trots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781000"/>
            <a:ext cx="84978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 engel was onder de indruk. "U bent geniaal, Heer. U heeft aan alles gedach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 Vrouw is werkelijk ongelooflijk." En dat is ze!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Vrouwen hebben krachten die mannen doen verbazen. Zij doorstaan ontberingen en dragen lasten, maar houden vast aan geluk, liefde en vreugde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glimlachen wanneer ze willen schreeuwen. Ze zingen wanneer ze willen huil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huilen als ze blij zijn en lachen als ze nerveus zij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vechten voor datgene waar ze in gelov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Verzetten zich tegen onrechtvaardigheid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accepteren geen 'nee' als ze geloven dat er een betere oplossing is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nemen minder, opdat hun familie meer heef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begeleiden een bange vriend(in) naar de dokte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3068280"/>
            <a:ext cx="5903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un liefde is onvoorwaardelijk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huilen wanneer hun kinderen zichzelf overtreffen en juichen als hun vrienden in de prijzen vallen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zijn blij met het nieuws van een geboorte of huwelijk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Hun hart breekt als een vriend(in) sterf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betreuren het verlies van een familielid, maar blijven sterk wanneer ze denken dat er niet genoeg kracht over is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e weten dat een knuffel en een kus kan helpen een gebroken hart te hel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36816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rouwen zijn er in alle maten, kleuren en vorm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e zullen rijden, vliegen, lopen, rennen of mailen om te laten zien hoeveel ze om je gev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et hart van de vrouw zorgt dat de aarde draai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brengen vreugde en hoop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bezitten compassie en ideal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ij ondersteunen familie en vrienden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rouwen hebben essentie om dingen te zeggen en alles te g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Stuur deze mail door naar je vriendinnen om ze eraan te herinneren ho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antastisch ze zijn; want vrouwen hebben maar 1 fout: Ze vergeten nog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wel eens aan zichzelf te den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22:08:34Z</dcterms:created>
  <dc:creator>patty</dc:creator>
  <dc:description/>
  <dc:language>en-US</dc:language>
  <cp:lastModifiedBy>Smets</cp:lastModifiedBy>
  <dcterms:modified xsi:type="dcterms:W3CDTF">2008-08-24T07:05:02Z</dcterms:modified>
  <cp:revision>13</cp:revision>
  <dc:subject/>
  <dc:title>Mooi scheppingsverhaal... </dc:title>
</cp:coreProperties>
</file>