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EEB-2245-4D80-B560-C88BF8EB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D4D-A418-4591-B49A-27106A5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4DC-47C7-484E-8D83-72484E3A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F1E-73A9-4EBA-A23D-0382AF23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70B-6AEE-409E-B7AD-1A3B578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B50-EF35-46D1-8374-78C2D7B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7CD-089F-49F9-A6CC-FC7F402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A51-8A91-426F-A0ED-AB8A3CA4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129-0D2C-4A0C-BE15-1A8E2ED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639-73EF-4066-B818-AC4CAE72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1E5-A411-48E3-A7B6-1110039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8B8-E2AC-4C72-BD6B-C42715B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2AA69-60C7-4EE2-B96C-EBBCFD8720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5:28Z</dcterms:created>
  <dc:creator>최봉수</dc:creator>
  <dc:description/>
  <dc:language>en-US</dc:language>
  <cp:lastModifiedBy>맛있다 군만두</cp:lastModifiedBy>
  <dcterms:modified xsi:type="dcterms:W3CDTF">2023-07-13T11:05:45Z</dcterms:modified>
  <cp:revision>3</cp:revision>
  <dc:subject/>
  <dc:title>슬라이드 1</dc:title>
</cp:coreProperties>
</file>