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72C-876A-467B-A40B-0AD4C030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F69-B209-43E4-831A-40796399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E4F-5A70-4CC8-B541-26469048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489-A18A-4155-82EA-10B2B6E1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10D-CF70-489D-A272-A29F6458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543-BF9B-4C25-B4CC-DBC77225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6B8-7459-47B6-86A7-4DE60E7D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BD0-0354-4835-826D-E45A4DCA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62C-51EA-4C26-9CE4-49A84350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FEA-7CF5-4550-B4B6-F13C0716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DB9-7322-4127-A3DB-91C06AE9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C55-4380-4A58-A33C-A4C27961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7EF76-3FD1-4D8C-9E28-DBCE641490C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8:25:28Z</dcterms:created>
  <dc:creator>최봉수</dc:creator>
  <dc:description/>
  <dc:language>en-US</dc:language>
  <cp:lastModifiedBy>맛있다 군만두</cp:lastModifiedBy>
  <dcterms:modified xsi:type="dcterms:W3CDTF">2023-07-13T11:05:45Z</dcterms:modified>
  <cp:revision>3</cp:revision>
  <dc:subject/>
  <dc:title>슬라이드 1</dc:title>
</cp:coreProperties>
</file>