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9F49-E53D-47AA-B62D-C4BCE1073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49D5-F41E-4AB6-9589-8F1860EC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883C-2C84-4575-8286-30CA74DA6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544D-1DFA-4D24-B1C4-D167E48A9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4C3E-2905-4678-B3B2-4CECB530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32DC-E27F-48E5-9922-69E7EF11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6B6B-992C-4733-997B-440101E2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1EFF-7018-4468-A57F-54E22693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28A2-5800-4E75-AA04-D79A88BC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7467-BBEF-4186-AC72-EACE6E99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788A-346F-4948-9D9E-2E3FD3CF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6FB0-876E-4ECE-9D69-3FBABEE3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A5D8-B621-4AA7-BA8F-9D8FD127B71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here  are  things  you  will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ever  see  agai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32000" y="274680"/>
            <a:ext cx="467856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32000" y="274680"/>
            <a:ext cx="4678560" cy="5851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flipV="1">
            <a:off x="4284720" y="1412640"/>
            <a:ext cx="1800000" cy="381636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5157720"/>
            <a:ext cx="6408720" cy="10083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0000"/>
                </a:solidFill>
                <a:latin typeface="Times New Roman"/>
              </a:rPr>
              <a:t>No, stupid, TH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34000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30T17:44:01Z</dcterms:created>
  <dc:creator>Miguel Gallego</dc:creator>
  <dc:description/>
  <dc:language>en-US</dc:language>
  <cp:lastModifiedBy>Smets</cp:lastModifiedBy>
  <dcterms:modified xsi:type="dcterms:W3CDTF">2008-10-04T18:11:51Z</dcterms:modified>
  <cp:revision>12</cp:revision>
  <dc:subject/>
  <dc:title>Hay cosas que no volverás a ver jamás…</dc:title>
</cp:coreProperties>
</file>