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269-4EAF-4ADC-90D2-42D93BDD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17B-C81B-461A-BF42-D934CDD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15C-32E9-4B01-A8D2-8E43839C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CBC-ABA6-4155-8D66-A270A30C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AAE-D1E6-4DA1-BA01-D867B798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6B8-D40C-4052-9193-2CAE1D8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EFB-D863-4640-9AF2-760A004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CBA-C1A8-40C0-962E-2B64667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9E-FB6B-4EDA-B0D9-4B67108E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D27-E290-4724-BE33-A8E73B0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64-7F31-4F89-A739-F64B6ED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439-AA84-449A-A9A9-8D068EC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EF2-6C2B-44B6-B2FF-7582CD8B96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re  are  things  you  will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ver  see 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32000" y="274680"/>
            <a:ext cx="4678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2000" y="274680"/>
            <a:ext cx="4678560" cy="585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4284720" y="1412640"/>
            <a:ext cx="1800000" cy="381636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157720"/>
            <a:ext cx="640872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Times New Roman"/>
              </a:rPr>
              <a:t>No, stupid, 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7:44:01Z</dcterms:created>
  <dc:creator>Miguel Gallego</dc:creator>
  <dc:description/>
  <dc:language>en-US</dc:language>
  <cp:lastModifiedBy>Smets</cp:lastModifiedBy>
  <dcterms:modified xsi:type="dcterms:W3CDTF">2008-10-04T18:11:51Z</dcterms:modified>
  <cp:revision>12</cp:revision>
  <dc:subject/>
  <dc:title>Hay cosas que no volverás a ver jamás…</dc:title>
</cp:coreProperties>
</file>