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7D8-324D-4CEF-8454-B82C2DE1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026-D7C2-470C-8C89-6722C09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B63-1C6D-437C-9979-6098968C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CCC-E9AF-42A4-BC43-075B5158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619-C835-4966-94DD-7BAA74B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71E-AD79-4DCA-B20C-6FF060C3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135-B909-4DFE-8DAC-E99F913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2B2-4A1C-45C6-8934-D2B02E70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67F-5CCC-4C90-94E2-0F86F80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72A-00FA-440D-85E2-19F2A33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129-5D91-4B36-A38F-6DEFB04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C75-1FCA-4E75-AF81-0AF49DE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586-EE38-4EBE-A09A-712ED031A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568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NO: Santiago buc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Alejandro santo dom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:1º 4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PRACTICO: Martillo de penna cu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0280"/>
            <a:ext cx="4762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LLO DE PENNA CURV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586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Limar el martillo de penna curva con la lima de media c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0"/>
            <a:ext cx="38671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ADO DEL MARTIL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936880" cy="391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 rot="15022800">
            <a:off x="3717000" y="3130920"/>
            <a:ext cx="2232000" cy="1675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0.00532 L 0.02448 -0.1204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ar el martillo con la lima de media c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Hacer la forma aprop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5832360" cy="261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28472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7029360"/>
            <a:ext cx="1800" cy="503280"/>
          </a:xfrm>
          <a:custGeom>
            <a:avLst/>
            <a:gdLst/>
            <a:ahLst/>
            <a:rect l="l" t="t" r="r" b="b"/>
            <a:pathLst>
              <a:path w="1" h="317">
                <a:moveTo>
                  <a:pt x="0" y="0"/>
                </a:moveTo>
                <a:cubicBezTo>
                  <a:pt x="0" y="0"/>
                  <a:pt x="0" y="317"/>
                  <a:pt x="0" y="317"/>
                </a:cubicBezTo>
                <a:cubicBezTo>
                  <a:pt x="0" y="317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10560" y="7174080"/>
            <a:ext cx="2157480" cy="803160"/>
          </a:xfrm>
          <a:custGeom>
            <a:avLst/>
            <a:gdLst/>
            <a:ahLst/>
            <a:rect l="l" t="t" r="r" b="b"/>
            <a:pathLst>
              <a:path w="1" h="506">
                <a:moveTo>
                  <a:pt x="0" y="0"/>
                </a:moveTo>
                <a:cubicBezTo>
                  <a:pt x="0" y="0"/>
                  <a:pt x="0" y="506"/>
                  <a:pt x="0" y="499"/>
                </a:cubicBezTo>
                <a:cubicBezTo>
                  <a:pt x="0" y="492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600360" cy="32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641800">
            <a:off x="3058920" y="2492280"/>
            <a:ext cx="230472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768800">
            <a:off x="3394800" y="2948760"/>
            <a:ext cx="26654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4:16:49Z</dcterms:created>
  <dc:creator>Laboratorio II</dc:creator>
  <dc:description/>
  <dc:language>en-US</dc:language>
  <cp:lastModifiedBy>Laboratorio II</cp:lastModifiedBy>
  <dcterms:modified xsi:type="dcterms:W3CDTF">2012-04-23T15:08:41Z</dcterms:modified>
  <cp:revision>2</cp:revision>
  <dc:subject/>
  <dc:title>Diapositiva 1</dc:title>
</cp:coreProperties>
</file>