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238-FDA1-45E6-B1BA-E15A4962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4D9-577B-4675-ADA4-02647A8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00F-FFF6-402B-B564-DDFB15D9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B0F-9518-441E-98FB-E5560ED7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905-B42E-4F27-8488-98DA24E5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134-91F8-44DC-8FF4-F382B78F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60E-9C23-4974-88E6-02AA489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C7D-F613-4F63-9098-FBF86B6E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B8E-0B81-4079-B099-B076CABC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C6C-6B15-4D59-A9C9-1DA81B5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046-D313-4312-884E-505B4AD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BAD-8202-4112-ABB3-1E845A2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F93E-9BAB-4456-BD96-B142D636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568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NO: Santiago buc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OR: Alejandro santo dom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SO:1º 4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PRACTICO: Martillo de penna cu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0280"/>
            <a:ext cx="4762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RTILLO DE PENNA CURV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586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Limar el martillo de penna curva con la lima de media c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0"/>
            <a:ext cx="38671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ADO DEL MARTIL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936880" cy="391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 rot="15022800">
            <a:off x="3717000" y="3130920"/>
            <a:ext cx="2232000" cy="1675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0.00532 L 0.02448 -0.12046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ar el martillo con la lima de media c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Hacer la forma aprop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5832360" cy="261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28472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7029360"/>
            <a:ext cx="1800" cy="503280"/>
          </a:xfrm>
          <a:custGeom>
            <a:avLst/>
            <a:gdLst/>
            <a:ahLst/>
            <a:rect l="l" t="t" r="r" b="b"/>
            <a:pathLst>
              <a:path w="1" h="317">
                <a:moveTo>
                  <a:pt x="0" y="0"/>
                </a:moveTo>
                <a:cubicBezTo>
                  <a:pt x="0" y="0"/>
                  <a:pt x="0" y="317"/>
                  <a:pt x="0" y="317"/>
                </a:cubicBezTo>
                <a:cubicBezTo>
                  <a:pt x="0" y="317"/>
                  <a:pt x="0" y="0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10560" y="7174080"/>
            <a:ext cx="2157480" cy="803160"/>
          </a:xfrm>
          <a:custGeom>
            <a:avLst/>
            <a:gdLst/>
            <a:ahLst/>
            <a:rect l="l" t="t" r="r" b="b"/>
            <a:pathLst>
              <a:path w="1" h="506">
                <a:moveTo>
                  <a:pt x="0" y="0"/>
                </a:moveTo>
                <a:cubicBezTo>
                  <a:pt x="0" y="0"/>
                  <a:pt x="0" y="506"/>
                  <a:pt x="0" y="499"/>
                </a:cubicBezTo>
                <a:cubicBezTo>
                  <a:pt x="0" y="492"/>
                  <a:pt x="0" y="0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3600360" cy="32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2641800">
            <a:off x="3058920" y="2492280"/>
            <a:ext cx="230472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7768800">
            <a:off x="3394800" y="2948760"/>
            <a:ext cx="26654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4:16:49Z</dcterms:created>
  <dc:creator>Laboratorio II</dc:creator>
  <dc:description/>
  <dc:language>en-US</dc:language>
  <cp:lastModifiedBy>Laboratorio II</cp:lastModifiedBy>
  <dcterms:modified xsi:type="dcterms:W3CDTF">2012-04-23T15:08:41Z</dcterms:modified>
  <cp:revision>2</cp:revision>
  <dc:subject/>
  <dc:title>Diapositiva 1</dc:title>
</cp:coreProperties>
</file>