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73B-8483-4290-9025-439D8DF6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E4E-3F5B-4038-A4B0-CFAAF309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9F1-E712-4D9D-9950-D567AD47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0B9-8C3C-4FDE-88DD-FB14F147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8CD-3083-4A13-8C2D-EE4E4967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C03-5894-4CFA-84A9-D429BAAB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C1F-6493-4D2D-BB5F-914B157A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495-4A4B-46EC-8CB9-6FD23990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890-8C5E-46A5-B66B-F9C36588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E9C-AB93-4A48-BA53-5814090F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78D-A898-4B4F-BF62-48D109E7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88C-C0F0-4597-B91B-871A1C92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B0F420-9A26-41C9-AE4A-E2992F9048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999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0" spc="-1" strike="noStrike">
                <a:solidFill>
                  <a:srgbClr val="9999ff"/>
                </a:solidFill>
                <a:latin typeface="TagsXtreme"/>
              </a:rPr>
              <a:t>DESTAQU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  <a:ea typeface="Lucida Sans Unicode"/>
              </a:rPr>
              <a:t>Por Paulo Kruel Guimarã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88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53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5000" y="457200"/>
            <a:ext cx="8856720" cy="58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7640" y="0"/>
            <a:ext cx="9179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59436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Por for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038480" y="6324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Por den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684540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0" y="324000"/>
            <a:ext cx="2057400" cy="188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58000" y="2514600"/>
            <a:ext cx="205740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858000" y="46483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17640" y="-9360"/>
            <a:ext cx="9179280" cy="687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304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O que é is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297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Inimaginável, n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7640" y="0"/>
            <a:ext cx="91792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05092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62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506520"/>
            <a:ext cx="8742600" cy="597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ets</cp:lastModifiedBy>
  <dcterms:modified xsi:type="dcterms:W3CDTF">2008-09-29T19:57:36Z</dcterms:modified>
  <cp:revision>1</cp:revision>
  <dc:subject/>
  <dc:title>DESTAQUES</dc:title>
</cp:coreProperties>
</file>