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415-08C8-4277-A45D-0DD42D9D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5C6-4E6B-42D2-ADA1-0E344FC8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470-B9DC-483D-A509-AC3D0ECA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608-761B-49C0-BD19-3BDF38E6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187-A86B-479E-9744-2EE1B903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985-CBC8-4282-9FFC-3D70A8BF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010-52B9-4D67-B508-E393C8DB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92E-F08F-4F72-BE15-F4F01196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218-D308-4CD5-992D-956F572E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E99-E069-470D-B174-CB3359D5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5F0-1733-433C-8076-2B634947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D00-361B-4D63-99BB-0ECD8C46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23E7B9-CE3E-426C-8741-51950C8072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999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0" spc="-1" strike="noStrike">
                <a:solidFill>
                  <a:srgbClr val="9999ff"/>
                </a:solidFill>
                <a:latin typeface="TagsXtreme"/>
              </a:rPr>
              <a:t>DESTAQU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  <a:ea typeface="Lucida Sans Unicode"/>
              </a:rPr>
              <a:t>Por Paulo Kruel Guimarã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88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53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5000" y="457200"/>
            <a:ext cx="885672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5943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Por fo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38480" y="6324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Por den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684540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0" y="324000"/>
            <a:ext cx="2057400" cy="188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0" y="251460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58000" y="46483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7640" y="-9360"/>
            <a:ext cx="9179280" cy="687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304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O que é i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297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Inimaginável, n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05092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62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506520"/>
            <a:ext cx="8742600" cy="597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ets</cp:lastModifiedBy>
  <dcterms:modified xsi:type="dcterms:W3CDTF">2008-09-29T19:57:36Z</dcterms:modified>
  <cp:revision>1</cp:revision>
  <dc:subject/>
  <dc:title>DESTAQUES</dc:title>
</cp:coreProperties>
</file>